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327-6BEC-468B-B649-54C5D9AF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626-5700-42B8-A23D-897B293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DCC-461A-49AD-B459-66797CA6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C44-2CF0-4DB4-9926-3F92571F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0CAD-4E23-439D-A62A-37A09C0D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52C0-E63D-4D32-A02C-4D089DC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3BD-4DA9-4C2D-A2B1-008E379D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6D5E-DC56-41A7-AF25-D1403C76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3A67-6A53-47B0-9D79-102B296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F3F-E0FE-4A48-AD90-5846CF0D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94F-F6C3-4738-8392-BF4B48A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9DD-14A7-4AB6-AB32-F43CF80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8187-5736-4C42-BAC2-CCF533D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A81-F683-41F0-8683-ED360B4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474E-B6F7-4C73-8565-87EADD1E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5DD0-E655-438B-96CB-F4B397F3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6D0D-8319-4544-A654-640DC85A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7F3-08C0-42D5-B60E-541E1DB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971-4765-4870-9FBB-5599605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ED5-F77C-4331-BCCF-666BC81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B8B-238D-492F-AB74-A129F68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623-F285-4191-9014-DEED069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2C1-A23F-4DCC-83D2-CCCA721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713-C33D-47DE-B339-2FDF77C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02A-11C6-4DB7-868F-3E703C4FA2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716-09B8-4442-96BD-3791E242DB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Addition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 + h = 2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j + 1.3 = 3.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n + 18 = 4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177920" y="1919160"/>
            <a:ext cx="457200" cy="465120"/>
          </a:xfrm>
          <a:custGeom>
            <a:avLst/>
            <a:gdLst/>
            <a:ahLst/>
            <a:rect l="l" t="t" r="r" b="b"/>
            <a:pathLst>
              <a:path w="1266" h="1291">
                <a:moveTo>
                  <a:pt x="3274" y="5606"/>
                </a:moveTo>
                <a:cubicBezTo>
                  <a:pt x="3373" y="5606"/>
                  <a:pt x="3473" y="5606"/>
                  <a:pt x="3572" y="5606"/>
                </a:cubicBezTo>
              </a:path>
              <a:path w="1266" h="1291">
                <a:moveTo>
                  <a:pt x="3820" y="5407"/>
                </a:moveTo>
                <a:cubicBezTo>
                  <a:pt x="3820" y="5528"/>
                  <a:pt x="3814" y="5640"/>
                  <a:pt x="3795" y="5755"/>
                </a:cubicBezTo>
                <a:cubicBezTo>
                  <a:pt x="3779" y="5848"/>
                  <a:pt x="3795" y="5957"/>
                  <a:pt x="3795" y="6052"/>
                </a:cubicBezTo>
              </a:path>
              <a:path w="1266" h="1291">
                <a:moveTo>
                  <a:pt x="4167" y="5482"/>
                </a:moveTo>
                <a:cubicBezTo>
                  <a:pt x="4167" y="5457"/>
                  <a:pt x="4167" y="5449"/>
                  <a:pt x="4167" y="5432"/>
                </a:cubicBezTo>
                <a:cubicBezTo>
                  <a:pt x="4234" y="5422"/>
                  <a:pt x="4279" y="5381"/>
                  <a:pt x="4341" y="5358"/>
                </a:cubicBezTo>
                <a:cubicBezTo>
                  <a:pt x="4378" y="5345"/>
                  <a:pt x="4362" y="5333"/>
                  <a:pt x="4415" y="5333"/>
                </a:cubicBezTo>
                <a:cubicBezTo>
                  <a:pt x="4423" y="5333"/>
                  <a:pt x="4432" y="5333"/>
                  <a:pt x="4440" y="5333"/>
                </a:cubicBezTo>
                <a:cubicBezTo>
                  <a:pt x="4440" y="5442"/>
                  <a:pt x="4464" y="5550"/>
                  <a:pt x="4390" y="5631"/>
                </a:cubicBezTo>
                <a:cubicBezTo>
                  <a:pt x="4370" y="5653"/>
                  <a:pt x="4321" y="5721"/>
                  <a:pt x="4316" y="5730"/>
                </a:cubicBezTo>
                <a:cubicBezTo>
                  <a:pt x="4301" y="5756"/>
                  <a:pt x="4302" y="5775"/>
                  <a:pt x="4266" y="5779"/>
                </a:cubicBezTo>
                <a:cubicBezTo>
                  <a:pt x="4227" y="5784"/>
                  <a:pt x="4238" y="5834"/>
                  <a:pt x="4192" y="5854"/>
                </a:cubicBezTo>
                <a:cubicBezTo>
                  <a:pt x="4164" y="5866"/>
                  <a:pt x="4128" y="5899"/>
                  <a:pt x="4118" y="5904"/>
                </a:cubicBezTo>
                <a:cubicBezTo>
                  <a:pt x="4083" y="5921"/>
                  <a:pt x="4093" y="5929"/>
                  <a:pt x="4093" y="5978"/>
                </a:cubicBezTo>
                <a:cubicBezTo>
                  <a:pt x="4093" y="6003"/>
                  <a:pt x="4093" y="6027"/>
                  <a:pt x="4093" y="6052"/>
                </a:cubicBezTo>
                <a:cubicBezTo>
                  <a:pt x="4167" y="6052"/>
                  <a:pt x="4228" y="6048"/>
                  <a:pt x="4291" y="6028"/>
                </a:cubicBezTo>
                <a:cubicBezTo>
                  <a:pt x="4358" y="6007"/>
                  <a:pt x="4468" y="6028"/>
                  <a:pt x="4539" y="6028"/>
                </a:cubicBezTo>
              </a:path>
              <a:path w="1266" h="1291">
                <a:moveTo>
                  <a:pt x="4440" y="6400"/>
                </a:moveTo>
                <a:cubicBezTo>
                  <a:pt x="4379" y="6415"/>
                  <a:pt x="4378" y="6450"/>
                  <a:pt x="4341" y="6499"/>
                </a:cubicBezTo>
                <a:cubicBezTo>
                  <a:pt x="4312" y="6537"/>
                  <a:pt x="4316" y="6549"/>
                  <a:pt x="4316" y="6598"/>
                </a:cubicBezTo>
                <a:cubicBezTo>
                  <a:pt x="4316" y="6606"/>
                  <a:pt x="4316" y="6615"/>
                  <a:pt x="4316" y="6623"/>
                </a:cubicBezTo>
                <a:cubicBezTo>
                  <a:pt x="4357" y="6623"/>
                  <a:pt x="4443" y="6641"/>
                  <a:pt x="4465" y="6598"/>
                </a:cubicBezTo>
                <a:cubicBezTo>
                  <a:pt x="4486" y="6556"/>
                  <a:pt x="4465" y="6448"/>
                  <a:pt x="446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59040" y="245592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8136" y="6846"/>
                </a:moveTo>
                <a:cubicBezTo>
                  <a:pt x="8081" y="6846"/>
                  <a:pt x="8066" y="6834"/>
                  <a:pt x="8012" y="6821"/>
                </a:cubicBezTo>
                <a:cubicBezTo>
                  <a:pt x="7945" y="6804"/>
                  <a:pt x="7890" y="6829"/>
                  <a:pt x="7838" y="6846"/>
                </a:cubicBezTo>
                <a:cubicBezTo>
                  <a:pt x="7768" y="6869"/>
                  <a:pt x="7800" y="6873"/>
                  <a:pt x="7739" y="6921"/>
                </a:cubicBezTo>
                <a:cubicBezTo>
                  <a:pt x="7712" y="6942"/>
                  <a:pt x="7707" y="6952"/>
                  <a:pt x="7689" y="6995"/>
                </a:cubicBezTo>
                <a:cubicBezTo>
                  <a:pt x="7667" y="7047"/>
                  <a:pt x="7665" y="7065"/>
                  <a:pt x="7665" y="7119"/>
                </a:cubicBezTo>
                <a:cubicBezTo>
                  <a:pt x="7665" y="7152"/>
                  <a:pt x="7665" y="7185"/>
                  <a:pt x="7665" y="7218"/>
                </a:cubicBezTo>
                <a:cubicBezTo>
                  <a:pt x="7779" y="7218"/>
                  <a:pt x="7938" y="7230"/>
                  <a:pt x="8012" y="7193"/>
                </a:cubicBezTo>
                <a:cubicBezTo>
                  <a:pt x="8057" y="7170"/>
                  <a:pt x="8062" y="7213"/>
                  <a:pt x="8062" y="7144"/>
                </a:cubicBezTo>
                <a:cubicBezTo>
                  <a:pt x="8062" y="7089"/>
                  <a:pt x="8082" y="7050"/>
                  <a:pt x="8086" y="6995"/>
                </a:cubicBezTo>
                <a:cubicBezTo>
                  <a:pt x="8086" y="6970"/>
                  <a:pt x="8086" y="6962"/>
                  <a:pt x="8086" y="6945"/>
                </a:cubicBezTo>
                <a:cubicBezTo>
                  <a:pt x="8086" y="6881"/>
                  <a:pt x="8086" y="7051"/>
                  <a:pt x="8086" y="7069"/>
                </a:cubicBezTo>
                <a:cubicBezTo>
                  <a:pt x="8086" y="7234"/>
                  <a:pt x="8086" y="7400"/>
                  <a:pt x="808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9200" y="2517840"/>
            <a:ext cx="9864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747" y="7069"/>
                </a:moveTo>
                <a:cubicBezTo>
                  <a:pt x="6798" y="7056"/>
                  <a:pt x="6824" y="7038"/>
                  <a:pt x="6871" y="7020"/>
                </a:cubicBezTo>
                <a:cubicBezTo>
                  <a:pt x="6883" y="6985"/>
                  <a:pt x="6878" y="6995"/>
                  <a:pt x="6921" y="6995"/>
                </a:cubicBezTo>
              </a:path>
              <a:path w="274" h="299">
                <a:moveTo>
                  <a:pt x="6722" y="7293"/>
                </a:moveTo>
                <a:cubicBezTo>
                  <a:pt x="6722" y="7268"/>
                  <a:pt x="6722" y="7260"/>
                  <a:pt x="6722" y="7243"/>
                </a:cubicBezTo>
                <a:cubicBezTo>
                  <a:pt x="6813" y="7243"/>
                  <a:pt x="6904" y="7243"/>
                  <a:pt x="6995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16080" y="2394000"/>
            <a:ext cx="169920" cy="330120"/>
          </a:xfrm>
          <a:custGeom>
            <a:avLst/>
            <a:gdLst/>
            <a:ahLst/>
            <a:rect l="l" t="t" r="r" b="b"/>
            <a:pathLst>
              <a:path w="472" h="918">
                <a:moveTo>
                  <a:pt x="5904" y="6672"/>
                </a:moveTo>
                <a:cubicBezTo>
                  <a:pt x="5904" y="6648"/>
                  <a:pt x="5904" y="6640"/>
                  <a:pt x="5879" y="6648"/>
                </a:cubicBezTo>
                <a:cubicBezTo>
                  <a:pt x="5879" y="6755"/>
                  <a:pt x="5876" y="6854"/>
                  <a:pt x="5904" y="6945"/>
                </a:cubicBezTo>
                <a:cubicBezTo>
                  <a:pt x="5921" y="6999"/>
                  <a:pt x="5924" y="7086"/>
                  <a:pt x="5928" y="7144"/>
                </a:cubicBezTo>
                <a:cubicBezTo>
                  <a:pt x="5936" y="7258"/>
                  <a:pt x="5928" y="7376"/>
                  <a:pt x="5928" y="7491"/>
                </a:cubicBezTo>
                <a:cubicBezTo>
                  <a:pt x="5928" y="7386"/>
                  <a:pt x="5922" y="7284"/>
                  <a:pt x="5953" y="7193"/>
                </a:cubicBezTo>
                <a:cubicBezTo>
                  <a:pt x="5964" y="7161"/>
                  <a:pt x="5993" y="7164"/>
                  <a:pt x="6003" y="7144"/>
                </a:cubicBezTo>
                <a:cubicBezTo>
                  <a:pt x="6020" y="7109"/>
                  <a:pt x="6029" y="7119"/>
                  <a:pt x="6077" y="7119"/>
                </a:cubicBezTo>
                <a:cubicBezTo>
                  <a:pt x="6143" y="7119"/>
                  <a:pt x="6227" y="7100"/>
                  <a:pt x="6276" y="7144"/>
                </a:cubicBezTo>
                <a:cubicBezTo>
                  <a:pt x="6308" y="7173"/>
                  <a:pt x="6345" y="7227"/>
                  <a:pt x="6350" y="7268"/>
                </a:cubicBezTo>
                <a:cubicBezTo>
                  <a:pt x="6361" y="7364"/>
                  <a:pt x="6350" y="7468"/>
                  <a:pt x="6350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5840" y="194616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7293" y="5755"/>
                </a:moveTo>
                <a:cubicBezTo>
                  <a:pt x="7308" y="5694"/>
                  <a:pt x="7342" y="5691"/>
                  <a:pt x="7392" y="5655"/>
                </a:cubicBezTo>
                <a:cubicBezTo>
                  <a:pt x="7429" y="5628"/>
                  <a:pt x="7430" y="5640"/>
                  <a:pt x="7441" y="5606"/>
                </a:cubicBezTo>
              </a:path>
              <a:path w="1018" h="547">
                <a:moveTo>
                  <a:pt x="7665" y="5482"/>
                </a:moveTo>
                <a:cubicBezTo>
                  <a:pt x="7665" y="5631"/>
                  <a:pt x="7665" y="5779"/>
                  <a:pt x="7665" y="5928"/>
                </a:cubicBezTo>
              </a:path>
              <a:path w="1018" h="547">
                <a:moveTo>
                  <a:pt x="8037" y="5507"/>
                </a:moveTo>
                <a:cubicBezTo>
                  <a:pt x="8037" y="5444"/>
                  <a:pt x="8066" y="5463"/>
                  <a:pt x="8086" y="5432"/>
                </a:cubicBezTo>
                <a:cubicBezTo>
                  <a:pt x="8107" y="5400"/>
                  <a:pt x="8110" y="5407"/>
                  <a:pt x="8161" y="5407"/>
                </a:cubicBezTo>
                <a:cubicBezTo>
                  <a:pt x="8186" y="5407"/>
                  <a:pt x="8194" y="5407"/>
                  <a:pt x="8210" y="5407"/>
                </a:cubicBezTo>
                <a:cubicBezTo>
                  <a:pt x="8210" y="5471"/>
                  <a:pt x="8228" y="5558"/>
                  <a:pt x="8186" y="5606"/>
                </a:cubicBezTo>
                <a:cubicBezTo>
                  <a:pt x="8151" y="5646"/>
                  <a:pt x="8099" y="5674"/>
                  <a:pt x="8086" y="5730"/>
                </a:cubicBezTo>
                <a:cubicBezTo>
                  <a:pt x="8071" y="5791"/>
                  <a:pt x="8059" y="5827"/>
                  <a:pt x="8012" y="5879"/>
                </a:cubicBezTo>
                <a:cubicBezTo>
                  <a:pt x="7983" y="5912"/>
                  <a:pt x="7972" y="5923"/>
                  <a:pt x="7962" y="5953"/>
                </a:cubicBezTo>
                <a:cubicBezTo>
                  <a:pt x="8078" y="5953"/>
                  <a:pt x="8194" y="5953"/>
                  <a:pt x="8310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3500280"/>
            <a:ext cx="2090520" cy="339840"/>
          </a:xfrm>
          <a:custGeom>
            <a:avLst/>
            <a:gdLst/>
            <a:ahLst/>
            <a:rect l="l" t="t" r="r" b="b"/>
            <a:pathLst>
              <a:path w="5805" h="944">
                <a:moveTo>
                  <a:pt x="4514" y="9823"/>
                </a:moveTo>
                <a:cubicBezTo>
                  <a:pt x="4514" y="9815"/>
                  <a:pt x="4514" y="9806"/>
                  <a:pt x="4514" y="9798"/>
                </a:cubicBezTo>
                <a:cubicBezTo>
                  <a:pt x="4580" y="9798"/>
                  <a:pt x="4647" y="9798"/>
                  <a:pt x="4713" y="9798"/>
                </a:cubicBezTo>
              </a:path>
              <a:path w="5805" h="944">
                <a:moveTo>
                  <a:pt x="5407" y="9723"/>
                </a:moveTo>
                <a:cubicBezTo>
                  <a:pt x="5407" y="9930"/>
                  <a:pt x="5407" y="10137"/>
                  <a:pt x="5407" y="10344"/>
                </a:cubicBezTo>
              </a:path>
              <a:path w="5805" h="944">
                <a:moveTo>
                  <a:pt x="5779" y="10170"/>
                </a:moveTo>
                <a:lnTo>
                  <a:pt x="5779" y="10170"/>
                </a:lnTo>
              </a:path>
              <a:path w="5805" h="944">
                <a:moveTo>
                  <a:pt x="5978" y="9872"/>
                </a:moveTo>
                <a:cubicBezTo>
                  <a:pt x="6013" y="9860"/>
                  <a:pt x="6026" y="9841"/>
                  <a:pt x="6077" y="9823"/>
                </a:cubicBezTo>
                <a:cubicBezTo>
                  <a:pt x="6135" y="9803"/>
                  <a:pt x="6141" y="9773"/>
                  <a:pt x="6201" y="9773"/>
                </a:cubicBezTo>
                <a:cubicBezTo>
                  <a:pt x="6234" y="9773"/>
                  <a:pt x="6267" y="9773"/>
                  <a:pt x="6300" y="9773"/>
                </a:cubicBezTo>
                <a:cubicBezTo>
                  <a:pt x="6300" y="9829"/>
                  <a:pt x="6315" y="9849"/>
                  <a:pt x="6251" y="9872"/>
                </a:cubicBezTo>
                <a:cubicBezTo>
                  <a:pt x="6247" y="9873"/>
                  <a:pt x="6179" y="9893"/>
                  <a:pt x="6176" y="9897"/>
                </a:cubicBezTo>
                <a:cubicBezTo>
                  <a:pt x="6176" y="9905"/>
                  <a:pt x="6176" y="9914"/>
                  <a:pt x="6176" y="9922"/>
                </a:cubicBezTo>
                <a:cubicBezTo>
                  <a:pt x="6226" y="9922"/>
                  <a:pt x="6397" y="9893"/>
                  <a:pt x="6424" y="9947"/>
                </a:cubicBezTo>
                <a:cubicBezTo>
                  <a:pt x="6447" y="9992"/>
                  <a:pt x="6431" y="10160"/>
                  <a:pt x="6400" y="10195"/>
                </a:cubicBezTo>
                <a:cubicBezTo>
                  <a:pt x="6358" y="10243"/>
                  <a:pt x="6339" y="10244"/>
                  <a:pt x="6276" y="10244"/>
                </a:cubicBezTo>
                <a:cubicBezTo>
                  <a:pt x="6268" y="10244"/>
                  <a:pt x="6259" y="10244"/>
                  <a:pt x="6251" y="10244"/>
                </a:cubicBezTo>
              </a:path>
              <a:path w="5805" h="944">
                <a:moveTo>
                  <a:pt x="7640" y="9798"/>
                </a:moveTo>
                <a:cubicBezTo>
                  <a:pt x="7640" y="9914"/>
                  <a:pt x="7640" y="10029"/>
                  <a:pt x="7640" y="10145"/>
                </a:cubicBezTo>
              </a:path>
              <a:path w="5805" h="944">
                <a:moveTo>
                  <a:pt x="8186" y="10046"/>
                </a:moveTo>
                <a:lnTo>
                  <a:pt x="8186" y="10046"/>
                </a:lnTo>
              </a:path>
              <a:path w="5805" h="944">
                <a:moveTo>
                  <a:pt x="8483" y="9823"/>
                </a:moveTo>
                <a:cubicBezTo>
                  <a:pt x="8492" y="9796"/>
                  <a:pt x="8501" y="9777"/>
                  <a:pt x="8533" y="9773"/>
                </a:cubicBezTo>
                <a:cubicBezTo>
                  <a:pt x="8629" y="9761"/>
                  <a:pt x="8733" y="9773"/>
                  <a:pt x="8830" y="9773"/>
                </a:cubicBezTo>
                <a:cubicBezTo>
                  <a:pt x="8830" y="9814"/>
                  <a:pt x="8830" y="9856"/>
                  <a:pt x="8830" y="9897"/>
                </a:cubicBezTo>
                <a:cubicBezTo>
                  <a:pt x="8785" y="9897"/>
                  <a:pt x="8771" y="9918"/>
                  <a:pt x="8731" y="9922"/>
                </a:cubicBezTo>
                <a:cubicBezTo>
                  <a:pt x="8685" y="9927"/>
                  <a:pt x="8671" y="9906"/>
                  <a:pt x="8657" y="9947"/>
                </a:cubicBezTo>
                <a:cubicBezTo>
                  <a:pt x="8667" y="9975"/>
                  <a:pt x="8691" y="9992"/>
                  <a:pt x="8731" y="9996"/>
                </a:cubicBezTo>
                <a:cubicBezTo>
                  <a:pt x="8779" y="10001"/>
                  <a:pt x="8831" y="9996"/>
                  <a:pt x="8880" y="9996"/>
                </a:cubicBezTo>
                <a:cubicBezTo>
                  <a:pt x="8880" y="10076"/>
                  <a:pt x="8870" y="10064"/>
                  <a:pt x="8830" y="10120"/>
                </a:cubicBezTo>
                <a:cubicBezTo>
                  <a:pt x="8801" y="10161"/>
                  <a:pt x="8795" y="10190"/>
                  <a:pt x="8756" y="10195"/>
                </a:cubicBezTo>
                <a:cubicBezTo>
                  <a:pt x="8700" y="10202"/>
                  <a:pt x="8638" y="10195"/>
                  <a:pt x="8582" y="10195"/>
                </a:cubicBezTo>
              </a:path>
              <a:path w="5805" h="944">
                <a:moveTo>
                  <a:pt x="3746" y="10492"/>
                </a:moveTo>
                <a:cubicBezTo>
                  <a:pt x="4034" y="10492"/>
                  <a:pt x="4333" y="10467"/>
                  <a:pt x="4614" y="10517"/>
                </a:cubicBezTo>
                <a:cubicBezTo>
                  <a:pt x="4717" y="10536"/>
                  <a:pt x="4804" y="10542"/>
                  <a:pt x="4911" y="10542"/>
                </a:cubicBezTo>
                <a:cubicBezTo>
                  <a:pt x="5056" y="10542"/>
                  <a:pt x="5171" y="10567"/>
                  <a:pt x="5308" y="10616"/>
                </a:cubicBezTo>
                <a:cubicBezTo>
                  <a:pt x="5384" y="10643"/>
                  <a:pt x="5430" y="10658"/>
                  <a:pt x="5507" y="10666"/>
                </a:cubicBezTo>
                <a:cubicBezTo>
                  <a:pt x="5855" y="10703"/>
                  <a:pt x="6209" y="10624"/>
                  <a:pt x="6548" y="10592"/>
                </a:cubicBezTo>
                <a:cubicBezTo>
                  <a:pt x="7008" y="10548"/>
                  <a:pt x="7518" y="10672"/>
                  <a:pt x="7962" y="10542"/>
                </a:cubicBezTo>
                <a:cubicBezTo>
                  <a:pt x="8143" y="10489"/>
                  <a:pt x="8325" y="10439"/>
                  <a:pt x="8508" y="10393"/>
                </a:cubicBezTo>
                <a:cubicBezTo>
                  <a:pt x="8582" y="10374"/>
                  <a:pt x="8654" y="10358"/>
                  <a:pt x="8731" y="10344"/>
                </a:cubicBezTo>
                <a:cubicBezTo>
                  <a:pt x="8819" y="10328"/>
                  <a:pt x="8914" y="10313"/>
                  <a:pt x="9004" y="10294"/>
                </a:cubicBezTo>
                <a:cubicBezTo>
                  <a:pt x="9057" y="10283"/>
                  <a:pt x="9101" y="10261"/>
                  <a:pt x="9153" y="10244"/>
                </a:cubicBezTo>
                <a:cubicBezTo>
                  <a:pt x="9254" y="10210"/>
                  <a:pt x="9350" y="10196"/>
                  <a:pt x="9451" y="10170"/>
                </a:cubicBezTo>
                <a:cubicBezTo>
                  <a:pt x="9501" y="10157"/>
                  <a:pt x="9517" y="10155"/>
                  <a:pt x="9550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3000" y="3830760"/>
            <a:ext cx="795240" cy="295200"/>
          </a:xfrm>
          <a:custGeom>
            <a:avLst/>
            <a:gdLst/>
            <a:ahLst/>
            <a:rect l="l" t="t" r="r" b="b"/>
            <a:pathLst>
              <a:path w="2209" h="820">
                <a:moveTo>
                  <a:pt x="7714" y="10964"/>
                </a:moveTo>
                <a:cubicBezTo>
                  <a:pt x="7679" y="10952"/>
                  <a:pt x="7689" y="10957"/>
                  <a:pt x="7689" y="10914"/>
                </a:cubicBezTo>
                <a:cubicBezTo>
                  <a:pt x="7702" y="10895"/>
                  <a:pt x="7792" y="10850"/>
                  <a:pt x="7838" y="10840"/>
                </a:cubicBezTo>
                <a:cubicBezTo>
                  <a:pt x="7874" y="10832"/>
                  <a:pt x="7924" y="10840"/>
                  <a:pt x="7962" y="10840"/>
                </a:cubicBezTo>
                <a:cubicBezTo>
                  <a:pt x="7962" y="10938"/>
                  <a:pt x="7934" y="10923"/>
                  <a:pt x="7888" y="10988"/>
                </a:cubicBezTo>
                <a:cubicBezTo>
                  <a:pt x="7860" y="11027"/>
                  <a:pt x="7820" y="11092"/>
                  <a:pt x="7789" y="11137"/>
                </a:cubicBezTo>
                <a:cubicBezTo>
                  <a:pt x="7751" y="11192"/>
                  <a:pt x="7695" y="11297"/>
                  <a:pt x="7640" y="11336"/>
                </a:cubicBezTo>
                <a:cubicBezTo>
                  <a:pt x="7587" y="11374"/>
                  <a:pt x="7598" y="11384"/>
                  <a:pt x="7565" y="11410"/>
                </a:cubicBezTo>
                <a:cubicBezTo>
                  <a:pt x="7541" y="11435"/>
                  <a:pt x="7533" y="11444"/>
                  <a:pt x="7516" y="11460"/>
                </a:cubicBezTo>
                <a:cubicBezTo>
                  <a:pt x="7690" y="11460"/>
                  <a:pt x="7863" y="11460"/>
                  <a:pt x="8037" y="11460"/>
                </a:cubicBezTo>
              </a:path>
              <a:path w="2209" h="820">
                <a:moveTo>
                  <a:pt x="8384" y="11435"/>
                </a:moveTo>
                <a:cubicBezTo>
                  <a:pt x="8384" y="11427"/>
                  <a:pt x="8384" y="11418"/>
                  <a:pt x="8384" y="11410"/>
                </a:cubicBezTo>
              </a:path>
              <a:path w="2209" h="820">
                <a:moveTo>
                  <a:pt x="8632" y="10914"/>
                </a:moveTo>
                <a:cubicBezTo>
                  <a:pt x="8632" y="11079"/>
                  <a:pt x="8632" y="11245"/>
                  <a:pt x="8632" y="11410"/>
                </a:cubicBezTo>
              </a:path>
              <a:path w="2209" h="820">
                <a:moveTo>
                  <a:pt x="6871" y="11038"/>
                </a:moveTo>
                <a:cubicBezTo>
                  <a:pt x="7028" y="11038"/>
                  <a:pt x="7185" y="11038"/>
                  <a:pt x="7342" y="11038"/>
                </a:cubicBezTo>
              </a:path>
              <a:path w="2209" h="820">
                <a:moveTo>
                  <a:pt x="6945" y="11286"/>
                </a:moveTo>
                <a:cubicBezTo>
                  <a:pt x="7061" y="11286"/>
                  <a:pt x="7177" y="11286"/>
                  <a:pt x="7293" y="11286"/>
                </a:cubicBezTo>
              </a:path>
              <a:path w="2209" h="820">
                <a:moveTo>
                  <a:pt x="6424" y="10641"/>
                </a:moveTo>
                <a:cubicBezTo>
                  <a:pt x="6424" y="10707"/>
                  <a:pt x="6424" y="10774"/>
                  <a:pt x="6424" y="10840"/>
                </a:cubicBezTo>
                <a:cubicBezTo>
                  <a:pt x="6490" y="10840"/>
                  <a:pt x="6557" y="10840"/>
                  <a:pt x="6623" y="10840"/>
                </a:cubicBezTo>
                <a:cubicBezTo>
                  <a:pt x="6623" y="10790"/>
                  <a:pt x="6623" y="10741"/>
                  <a:pt x="6623" y="10691"/>
                </a:cubicBezTo>
                <a:cubicBezTo>
                  <a:pt x="6557" y="10691"/>
                  <a:pt x="6490" y="10691"/>
                  <a:pt x="6424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19160" y="398304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5829" y="11261"/>
                </a:moveTo>
                <a:cubicBezTo>
                  <a:pt x="5829" y="11322"/>
                  <a:pt x="5872" y="11624"/>
                  <a:pt x="5804" y="11658"/>
                </a:cubicBezTo>
                <a:cubicBezTo>
                  <a:pt x="5769" y="11675"/>
                  <a:pt x="5737" y="11679"/>
                  <a:pt x="5705" y="11708"/>
                </a:cubicBezTo>
                <a:cubicBezTo>
                  <a:pt x="5671" y="11738"/>
                  <a:pt x="5651" y="11777"/>
                  <a:pt x="5606" y="11782"/>
                </a:cubicBezTo>
                <a:cubicBezTo>
                  <a:pt x="5561" y="11787"/>
                  <a:pt x="5529" y="11807"/>
                  <a:pt x="5482" y="11807"/>
                </a:cubicBezTo>
                <a:cubicBezTo>
                  <a:pt x="5441" y="11807"/>
                  <a:pt x="5399" y="11807"/>
                  <a:pt x="5358" y="11807"/>
                </a:cubicBezTo>
                <a:cubicBezTo>
                  <a:pt x="5348" y="11714"/>
                  <a:pt x="5333" y="11631"/>
                  <a:pt x="5333" y="11534"/>
                </a:cubicBezTo>
                <a:cubicBezTo>
                  <a:pt x="5333" y="11501"/>
                  <a:pt x="5333" y="11468"/>
                  <a:pt x="5333" y="11435"/>
                </a:cubicBezTo>
              </a:path>
              <a:path w="497" h="745">
                <a:moveTo>
                  <a:pt x="5804" y="11063"/>
                </a:moveTo>
                <a:lnTo>
                  <a:pt x="5804" y="110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33760" y="4510080"/>
            <a:ext cx="250560" cy="401760"/>
          </a:xfrm>
          <a:custGeom>
            <a:avLst/>
            <a:gdLst/>
            <a:ahLst/>
            <a:rect l="l" t="t" r="r" b="b"/>
            <a:pathLst>
              <a:path w="696" h="1118">
                <a:moveTo>
                  <a:pt x="7541" y="13047"/>
                </a:moveTo>
                <a:cubicBezTo>
                  <a:pt x="7541" y="13136"/>
                  <a:pt x="7538" y="13212"/>
                  <a:pt x="7565" y="13295"/>
                </a:cubicBezTo>
                <a:cubicBezTo>
                  <a:pt x="7590" y="13372"/>
                  <a:pt x="7612" y="13405"/>
                  <a:pt x="7640" y="13469"/>
                </a:cubicBezTo>
                <a:cubicBezTo>
                  <a:pt x="7652" y="13496"/>
                  <a:pt x="7660" y="13533"/>
                  <a:pt x="7665" y="13543"/>
                </a:cubicBezTo>
                <a:cubicBezTo>
                  <a:pt x="7677" y="13567"/>
                  <a:pt x="7687" y="13600"/>
                  <a:pt x="7689" y="13618"/>
                </a:cubicBezTo>
                <a:cubicBezTo>
                  <a:pt x="7689" y="13626"/>
                  <a:pt x="7689" y="13635"/>
                  <a:pt x="7689" y="13643"/>
                </a:cubicBezTo>
              </a:path>
              <a:path w="696" h="1118">
                <a:moveTo>
                  <a:pt x="7441" y="12576"/>
                </a:moveTo>
                <a:cubicBezTo>
                  <a:pt x="7428" y="12536"/>
                  <a:pt x="7430" y="12566"/>
                  <a:pt x="7417" y="12526"/>
                </a:cubicBezTo>
                <a:cubicBezTo>
                  <a:pt x="7491" y="12526"/>
                  <a:pt x="7566" y="12526"/>
                  <a:pt x="7640" y="12526"/>
                </a:cubicBezTo>
                <a:cubicBezTo>
                  <a:pt x="7640" y="12617"/>
                  <a:pt x="7631" y="12605"/>
                  <a:pt x="7590" y="12650"/>
                </a:cubicBezTo>
                <a:cubicBezTo>
                  <a:pt x="7554" y="12689"/>
                  <a:pt x="7559" y="12720"/>
                  <a:pt x="7516" y="12725"/>
                </a:cubicBezTo>
                <a:cubicBezTo>
                  <a:pt x="7508" y="12725"/>
                  <a:pt x="7499" y="12725"/>
                  <a:pt x="7491" y="12725"/>
                </a:cubicBezTo>
                <a:cubicBezTo>
                  <a:pt x="7515" y="12761"/>
                  <a:pt x="7558" y="12750"/>
                  <a:pt x="7615" y="12750"/>
                </a:cubicBezTo>
                <a:cubicBezTo>
                  <a:pt x="7648" y="12750"/>
                  <a:pt x="7681" y="12750"/>
                  <a:pt x="7714" y="12750"/>
                </a:cubicBezTo>
                <a:cubicBezTo>
                  <a:pt x="7714" y="12812"/>
                  <a:pt x="7743" y="12933"/>
                  <a:pt x="7665" y="12948"/>
                </a:cubicBezTo>
                <a:cubicBezTo>
                  <a:pt x="7602" y="12960"/>
                  <a:pt x="7522" y="12994"/>
                  <a:pt x="7466" y="12998"/>
                </a:cubicBezTo>
                <a:cubicBezTo>
                  <a:pt x="7417" y="13002"/>
                  <a:pt x="7366" y="12998"/>
                  <a:pt x="7317" y="12998"/>
                </a:cubicBezTo>
              </a:path>
              <a:path w="696" h="1118">
                <a:moveTo>
                  <a:pt x="8012" y="12874"/>
                </a:moveTo>
                <a:cubicBezTo>
                  <a:pt x="7982" y="12923"/>
                  <a:pt x="7987" y="12961"/>
                  <a:pt x="7987" y="13022"/>
                </a:cubicBezTo>
                <a:cubicBezTo>
                  <a:pt x="7987" y="13055"/>
                  <a:pt x="7987" y="13089"/>
                  <a:pt x="7987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0040" y="5018040"/>
            <a:ext cx="152280" cy="27000"/>
          </a:xfrm>
          <a:custGeom>
            <a:avLst/>
            <a:gdLst/>
            <a:ahLst/>
            <a:rect l="l" t="t" r="r" b="b"/>
            <a:pathLst>
              <a:path w="423" h="76">
                <a:moveTo>
                  <a:pt x="4663" y="13940"/>
                </a:moveTo>
                <a:cubicBezTo>
                  <a:pt x="4602" y="13940"/>
                  <a:pt x="4770" y="13960"/>
                  <a:pt x="4787" y="13965"/>
                </a:cubicBezTo>
                <a:cubicBezTo>
                  <a:pt x="4876" y="13993"/>
                  <a:pt x="4942" y="14015"/>
                  <a:pt x="5035" y="14015"/>
                </a:cubicBezTo>
                <a:cubicBezTo>
                  <a:pt x="5043" y="14015"/>
                  <a:pt x="5052" y="14015"/>
                  <a:pt x="506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09880" y="5000760"/>
            <a:ext cx="9360" cy="268200"/>
          </a:xfrm>
          <a:custGeom>
            <a:avLst/>
            <a:gdLst/>
            <a:ahLst/>
            <a:rect l="l" t="t" r="r" b="b"/>
            <a:pathLst>
              <a:path w="26" h="745">
                <a:moveTo>
                  <a:pt x="5581" y="13891"/>
                </a:moveTo>
                <a:cubicBezTo>
                  <a:pt x="5581" y="14076"/>
                  <a:pt x="5590" y="14255"/>
                  <a:pt x="5606" y="14436"/>
                </a:cubicBezTo>
                <a:cubicBezTo>
                  <a:pt x="5612" y="14501"/>
                  <a:pt x="5606" y="14570"/>
                  <a:pt x="560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720" y="5010120"/>
            <a:ext cx="117360" cy="258840"/>
          </a:xfrm>
          <a:custGeom>
            <a:avLst/>
            <a:gdLst/>
            <a:ahLst/>
            <a:rect l="l" t="t" r="r" b="b"/>
            <a:pathLst>
              <a:path w="323" h="721">
                <a:moveTo>
                  <a:pt x="6276" y="13940"/>
                </a:moveTo>
                <a:cubicBezTo>
                  <a:pt x="6238" y="13911"/>
                  <a:pt x="6225" y="13915"/>
                  <a:pt x="6176" y="13915"/>
                </a:cubicBezTo>
                <a:cubicBezTo>
                  <a:pt x="6135" y="13915"/>
                  <a:pt x="6093" y="13915"/>
                  <a:pt x="6052" y="13915"/>
                </a:cubicBezTo>
                <a:cubicBezTo>
                  <a:pt x="6052" y="14016"/>
                  <a:pt x="6050" y="14034"/>
                  <a:pt x="6102" y="14114"/>
                </a:cubicBezTo>
                <a:cubicBezTo>
                  <a:pt x="6145" y="14180"/>
                  <a:pt x="6215" y="14225"/>
                  <a:pt x="6251" y="14263"/>
                </a:cubicBezTo>
                <a:cubicBezTo>
                  <a:pt x="6283" y="14297"/>
                  <a:pt x="6304" y="14320"/>
                  <a:pt x="6325" y="14362"/>
                </a:cubicBezTo>
                <a:cubicBezTo>
                  <a:pt x="6341" y="14394"/>
                  <a:pt x="6332" y="14520"/>
                  <a:pt x="6300" y="14536"/>
                </a:cubicBezTo>
                <a:cubicBezTo>
                  <a:pt x="6235" y="14569"/>
                  <a:pt x="6153" y="14616"/>
                  <a:pt x="6077" y="14635"/>
                </a:cubicBezTo>
                <a:cubicBezTo>
                  <a:pt x="6044" y="14635"/>
                  <a:pt x="6028" y="14635"/>
                  <a:pt x="6003" y="14635"/>
                </a:cubicBezTo>
                <a:cubicBezTo>
                  <a:pt x="6003" y="14489"/>
                  <a:pt x="6012" y="14393"/>
                  <a:pt x="6077" y="14263"/>
                </a:cubicBezTo>
                <a:cubicBezTo>
                  <a:pt x="6099" y="14219"/>
                  <a:pt x="6148" y="14167"/>
                  <a:pt x="6152" y="14139"/>
                </a:cubicBezTo>
                <a:cubicBezTo>
                  <a:pt x="6159" y="14083"/>
                  <a:pt x="6208" y="14091"/>
                  <a:pt x="6226" y="14064"/>
                </a:cubicBezTo>
                <a:cubicBezTo>
                  <a:pt x="6226" y="14039"/>
                  <a:pt x="6226" y="14031"/>
                  <a:pt x="6226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5045040"/>
            <a:ext cx="384120" cy="189000"/>
          </a:xfrm>
          <a:custGeom>
            <a:avLst/>
            <a:gdLst/>
            <a:ahLst/>
            <a:rect l="l" t="t" r="r" b="b"/>
            <a:pathLst>
              <a:path w="1067" h="522">
                <a:moveTo>
                  <a:pt x="7516" y="14039"/>
                </a:moveTo>
                <a:cubicBezTo>
                  <a:pt x="7590" y="14039"/>
                  <a:pt x="7665" y="14039"/>
                  <a:pt x="7739" y="14039"/>
                </a:cubicBezTo>
              </a:path>
              <a:path w="1067" h="522">
                <a:moveTo>
                  <a:pt x="7987" y="14039"/>
                </a:moveTo>
                <a:cubicBezTo>
                  <a:pt x="7987" y="14163"/>
                  <a:pt x="7987" y="14288"/>
                  <a:pt x="7987" y="14412"/>
                </a:cubicBezTo>
              </a:path>
              <a:path w="1067" h="522">
                <a:moveTo>
                  <a:pt x="8483" y="14064"/>
                </a:moveTo>
                <a:cubicBezTo>
                  <a:pt x="8471" y="14015"/>
                  <a:pt x="8459" y="14015"/>
                  <a:pt x="8409" y="14015"/>
                </a:cubicBezTo>
                <a:cubicBezTo>
                  <a:pt x="8373" y="14015"/>
                  <a:pt x="8305" y="13999"/>
                  <a:pt x="8285" y="14039"/>
                </a:cubicBezTo>
                <a:cubicBezTo>
                  <a:pt x="8269" y="14071"/>
                  <a:pt x="8260" y="14064"/>
                  <a:pt x="8260" y="14114"/>
                </a:cubicBezTo>
                <a:cubicBezTo>
                  <a:pt x="8260" y="14155"/>
                  <a:pt x="8266" y="14193"/>
                  <a:pt x="8310" y="14213"/>
                </a:cubicBezTo>
                <a:cubicBezTo>
                  <a:pt x="8351" y="14232"/>
                  <a:pt x="8403" y="14207"/>
                  <a:pt x="8434" y="14263"/>
                </a:cubicBezTo>
                <a:cubicBezTo>
                  <a:pt x="8460" y="14310"/>
                  <a:pt x="8478" y="14305"/>
                  <a:pt x="8483" y="14362"/>
                </a:cubicBezTo>
                <a:cubicBezTo>
                  <a:pt x="8488" y="14419"/>
                  <a:pt x="8489" y="14462"/>
                  <a:pt x="8458" y="14486"/>
                </a:cubicBezTo>
                <a:cubicBezTo>
                  <a:pt x="8425" y="14511"/>
                  <a:pt x="8423" y="14526"/>
                  <a:pt x="8384" y="14536"/>
                </a:cubicBezTo>
                <a:cubicBezTo>
                  <a:pt x="8350" y="14514"/>
                  <a:pt x="8359" y="14487"/>
                  <a:pt x="8359" y="14436"/>
                </a:cubicBezTo>
                <a:cubicBezTo>
                  <a:pt x="8359" y="14389"/>
                  <a:pt x="8340" y="14318"/>
                  <a:pt x="8384" y="14288"/>
                </a:cubicBezTo>
                <a:cubicBezTo>
                  <a:pt x="8444" y="14247"/>
                  <a:pt x="8461" y="14239"/>
                  <a:pt x="8508" y="14213"/>
                </a:cubicBezTo>
                <a:cubicBezTo>
                  <a:pt x="8542" y="14195"/>
                  <a:pt x="8578" y="14149"/>
                  <a:pt x="8582" y="14114"/>
                </a:cubicBezTo>
                <a:cubicBezTo>
                  <a:pt x="8582" y="14106"/>
                  <a:pt x="8582" y="14097"/>
                  <a:pt x="8582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3080" y="5411880"/>
            <a:ext cx="206280" cy="44604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6201" y="15032"/>
                </a:moveTo>
                <a:cubicBezTo>
                  <a:pt x="6201" y="15090"/>
                  <a:pt x="6201" y="15147"/>
                  <a:pt x="6201" y="15205"/>
                </a:cubicBezTo>
                <a:cubicBezTo>
                  <a:pt x="6275" y="15205"/>
                  <a:pt x="6350" y="15205"/>
                  <a:pt x="6424" y="15205"/>
                </a:cubicBezTo>
                <a:cubicBezTo>
                  <a:pt x="6424" y="15168"/>
                  <a:pt x="6440" y="15101"/>
                  <a:pt x="6400" y="15081"/>
                </a:cubicBezTo>
                <a:cubicBezTo>
                  <a:pt x="6379" y="15070"/>
                  <a:pt x="6322" y="15058"/>
                  <a:pt x="6300" y="15056"/>
                </a:cubicBezTo>
                <a:cubicBezTo>
                  <a:pt x="6292" y="15056"/>
                  <a:pt x="6284" y="15056"/>
                  <a:pt x="6276" y="15056"/>
                </a:cubicBezTo>
              </a:path>
              <a:path w="572" h="1241">
                <a:moveTo>
                  <a:pt x="5953" y="15751"/>
                </a:moveTo>
                <a:cubicBezTo>
                  <a:pt x="5953" y="15892"/>
                  <a:pt x="5953" y="16032"/>
                  <a:pt x="5953" y="16173"/>
                </a:cubicBezTo>
                <a:cubicBezTo>
                  <a:pt x="5953" y="16080"/>
                  <a:pt x="5917" y="15871"/>
                  <a:pt x="5978" y="15801"/>
                </a:cubicBezTo>
                <a:cubicBezTo>
                  <a:pt x="5990" y="15787"/>
                  <a:pt x="6099" y="15702"/>
                  <a:pt x="6102" y="15701"/>
                </a:cubicBezTo>
                <a:cubicBezTo>
                  <a:pt x="6143" y="15686"/>
                  <a:pt x="6187" y="15665"/>
                  <a:pt x="6226" y="15652"/>
                </a:cubicBezTo>
                <a:cubicBezTo>
                  <a:pt x="6259" y="15641"/>
                  <a:pt x="6306" y="15650"/>
                  <a:pt x="6325" y="15677"/>
                </a:cubicBezTo>
                <a:cubicBezTo>
                  <a:pt x="6358" y="15724"/>
                  <a:pt x="6426" y="15786"/>
                  <a:pt x="6449" y="15825"/>
                </a:cubicBezTo>
                <a:cubicBezTo>
                  <a:pt x="6469" y="15859"/>
                  <a:pt x="6515" y="15984"/>
                  <a:pt x="6524" y="16024"/>
                </a:cubicBezTo>
                <a:cubicBezTo>
                  <a:pt x="6540" y="16096"/>
                  <a:pt x="6524" y="16198"/>
                  <a:pt x="6524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90840" y="5464080"/>
            <a:ext cx="617400" cy="33192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7863" y="15255"/>
                </a:moveTo>
                <a:cubicBezTo>
                  <a:pt x="7919" y="15255"/>
                  <a:pt x="7897" y="15235"/>
                  <a:pt x="7938" y="15230"/>
                </a:cubicBezTo>
                <a:cubicBezTo>
                  <a:pt x="7978" y="15225"/>
                  <a:pt x="8022" y="15230"/>
                  <a:pt x="8062" y="15230"/>
                </a:cubicBezTo>
                <a:cubicBezTo>
                  <a:pt x="8062" y="15358"/>
                  <a:pt x="8025" y="15378"/>
                  <a:pt x="7913" y="15453"/>
                </a:cubicBezTo>
                <a:cubicBezTo>
                  <a:pt x="7843" y="15500"/>
                  <a:pt x="7740" y="15614"/>
                  <a:pt x="7665" y="15652"/>
                </a:cubicBezTo>
                <a:cubicBezTo>
                  <a:pt x="7631" y="15669"/>
                  <a:pt x="7640" y="15678"/>
                  <a:pt x="7640" y="15726"/>
                </a:cubicBezTo>
                <a:cubicBezTo>
                  <a:pt x="7640" y="15734"/>
                  <a:pt x="7640" y="15743"/>
                  <a:pt x="7640" y="15751"/>
                </a:cubicBezTo>
                <a:cubicBezTo>
                  <a:pt x="7730" y="15751"/>
                  <a:pt x="7777" y="15788"/>
                  <a:pt x="7863" y="15801"/>
                </a:cubicBezTo>
                <a:cubicBezTo>
                  <a:pt x="7949" y="15814"/>
                  <a:pt x="8048" y="15801"/>
                  <a:pt x="8136" y="15801"/>
                </a:cubicBezTo>
              </a:path>
              <a:path w="1712" h="919">
                <a:moveTo>
                  <a:pt x="8310" y="15304"/>
                </a:moveTo>
                <a:cubicBezTo>
                  <a:pt x="8302" y="15304"/>
                  <a:pt x="8293" y="15304"/>
                  <a:pt x="8285" y="15304"/>
                </a:cubicBezTo>
                <a:cubicBezTo>
                  <a:pt x="8272" y="15344"/>
                  <a:pt x="8273" y="15314"/>
                  <a:pt x="8260" y="15354"/>
                </a:cubicBezTo>
                <a:cubicBezTo>
                  <a:pt x="8224" y="15378"/>
                  <a:pt x="8235" y="15421"/>
                  <a:pt x="8235" y="15478"/>
                </a:cubicBezTo>
                <a:cubicBezTo>
                  <a:pt x="8235" y="15515"/>
                  <a:pt x="8219" y="15582"/>
                  <a:pt x="8260" y="15602"/>
                </a:cubicBezTo>
                <a:cubicBezTo>
                  <a:pt x="8322" y="15632"/>
                  <a:pt x="8555" y="15616"/>
                  <a:pt x="8607" y="15577"/>
                </a:cubicBezTo>
              </a:path>
              <a:path w="1712" h="919">
                <a:moveTo>
                  <a:pt x="8632" y="15180"/>
                </a:moveTo>
                <a:cubicBezTo>
                  <a:pt x="8584" y="15212"/>
                  <a:pt x="8584" y="15331"/>
                  <a:pt x="8582" y="15404"/>
                </a:cubicBezTo>
                <a:cubicBezTo>
                  <a:pt x="8577" y="15619"/>
                  <a:pt x="8582" y="15834"/>
                  <a:pt x="8582" y="16049"/>
                </a:cubicBezTo>
              </a:path>
              <a:path w="1712" h="919">
                <a:moveTo>
                  <a:pt x="6921" y="15726"/>
                </a:moveTo>
                <a:cubicBezTo>
                  <a:pt x="7061" y="15726"/>
                  <a:pt x="7202" y="15726"/>
                  <a:pt x="7342" y="15726"/>
                </a:cubicBezTo>
              </a:path>
              <a:path w="1712" h="919">
                <a:moveTo>
                  <a:pt x="6970" y="15949"/>
                </a:moveTo>
                <a:cubicBezTo>
                  <a:pt x="6970" y="15986"/>
                  <a:pt x="6950" y="16056"/>
                  <a:pt x="6995" y="16073"/>
                </a:cubicBezTo>
                <a:cubicBezTo>
                  <a:pt x="7012" y="16073"/>
                  <a:pt x="7028" y="16073"/>
                  <a:pt x="7045" y="16073"/>
                </a:cubicBezTo>
                <a:cubicBezTo>
                  <a:pt x="7057" y="16111"/>
                  <a:pt x="7074" y="16098"/>
                  <a:pt x="7119" y="16098"/>
                </a:cubicBezTo>
                <a:cubicBezTo>
                  <a:pt x="7193" y="16098"/>
                  <a:pt x="7268" y="16098"/>
                  <a:pt x="734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66920" y="2152800"/>
            <a:ext cx="2125440" cy="160200"/>
          </a:xfrm>
          <a:custGeom>
            <a:avLst/>
            <a:gdLst/>
            <a:ahLst/>
            <a:rect l="l" t="t" r="r" b="b"/>
            <a:pathLst>
              <a:path w="5905" h="447">
                <a:moveTo>
                  <a:pt x="3795" y="6325"/>
                </a:moveTo>
                <a:cubicBezTo>
                  <a:pt x="4074" y="6325"/>
                  <a:pt x="4404" y="6283"/>
                  <a:pt x="4663" y="6350"/>
                </a:cubicBezTo>
                <a:cubicBezTo>
                  <a:pt x="4723" y="6366"/>
                  <a:pt x="4737" y="6353"/>
                  <a:pt x="4787" y="6375"/>
                </a:cubicBezTo>
                <a:cubicBezTo>
                  <a:pt x="4818" y="6389"/>
                  <a:pt x="4815" y="6424"/>
                  <a:pt x="4887" y="6424"/>
                </a:cubicBezTo>
                <a:cubicBezTo>
                  <a:pt x="4981" y="6424"/>
                  <a:pt x="5088" y="6383"/>
                  <a:pt x="5184" y="6375"/>
                </a:cubicBezTo>
                <a:cubicBezTo>
                  <a:pt x="5486" y="6350"/>
                  <a:pt x="5782" y="6392"/>
                  <a:pt x="6077" y="6424"/>
                </a:cubicBezTo>
                <a:cubicBezTo>
                  <a:pt x="6197" y="6437"/>
                  <a:pt x="6337" y="6433"/>
                  <a:pt x="6449" y="6400"/>
                </a:cubicBezTo>
                <a:cubicBezTo>
                  <a:pt x="6615" y="6351"/>
                  <a:pt x="6770" y="6290"/>
                  <a:pt x="6945" y="6276"/>
                </a:cubicBezTo>
                <a:cubicBezTo>
                  <a:pt x="7078" y="6265"/>
                  <a:pt x="7208" y="6254"/>
                  <a:pt x="7342" y="6251"/>
                </a:cubicBezTo>
                <a:cubicBezTo>
                  <a:pt x="7784" y="6241"/>
                  <a:pt x="8246" y="6295"/>
                  <a:pt x="8682" y="6226"/>
                </a:cubicBezTo>
                <a:cubicBezTo>
                  <a:pt x="8930" y="6187"/>
                  <a:pt x="9157" y="6101"/>
                  <a:pt x="9401" y="6052"/>
                </a:cubicBezTo>
                <a:cubicBezTo>
                  <a:pt x="9487" y="6035"/>
                  <a:pt x="9575" y="5995"/>
                  <a:pt x="9649" y="5978"/>
                </a:cubicBezTo>
                <a:cubicBezTo>
                  <a:pt x="9674" y="5978"/>
                  <a:pt x="9682" y="5978"/>
                  <a:pt x="9699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57200" y="5340240"/>
            <a:ext cx="1965600" cy="98640"/>
          </a:xfrm>
          <a:custGeom>
            <a:avLst/>
            <a:gdLst/>
            <a:ahLst/>
            <a:rect l="l" t="t" r="r" b="b"/>
            <a:pathLst>
              <a:path w="5458" h="274">
                <a:moveTo>
                  <a:pt x="3770" y="15106"/>
                </a:moveTo>
                <a:cubicBezTo>
                  <a:pt x="3883" y="15080"/>
                  <a:pt x="3999" y="15049"/>
                  <a:pt x="4118" y="15032"/>
                </a:cubicBezTo>
                <a:cubicBezTo>
                  <a:pt x="4348" y="14999"/>
                  <a:pt x="4580" y="14961"/>
                  <a:pt x="4812" y="14957"/>
                </a:cubicBezTo>
                <a:cubicBezTo>
                  <a:pt x="5793" y="14940"/>
                  <a:pt x="6941" y="15124"/>
                  <a:pt x="7888" y="14883"/>
                </a:cubicBezTo>
                <a:cubicBezTo>
                  <a:pt x="7995" y="14856"/>
                  <a:pt x="8101" y="14841"/>
                  <a:pt x="8210" y="14833"/>
                </a:cubicBezTo>
                <a:cubicBezTo>
                  <a:pt x="8546" y="14808"/>
                  <a:pt x="8890" y="14833"/>
                  <a:pt x="9227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3: Solving Subtrac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Subtrac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subtraction equation, </a:t>
            </a: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the same number to each side so that the variable is by itself on one sid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633920"/>
            <a:ext cx="795240" cy="457200"/>
          </a:xfrm>
          <a:custGeom>
            <a:avLst/>
            <a:gdLst/>
            <a:ahLst/>
            <a:rect l="l" t="t" r="r" b="b"/>
            <a:pathLst>
              <a:path w="2208" h="1266">
                <a:moveTo>
                  <a:pt x="9525" y="12874"/>
                </a:moveTo>
                <a:cubicBezTo>
                  <a:pt x="9525" y="13149"/>
                  <a:pt x="9495" y="13461"/>
                  <a:pt x="9550" y="13717"/>
                </a:cubicBezTo>
                <a:cubicBezTo>
                  <a:pt x="9562" y="13773"/>
                  <a:pt x="9515" y="13934"/>
                  <a:pt x="9575" y="13965"/>
                </a:cubicBezTo>
                <a:cubicBezTo>
                  <a:pt x="9607" y="13981"/>
                  <a:pt x="9634" y="13990"/>
                  <a:pt x="9674" y="13990"/>
                </a:cubicBezTo>
                <a:cubicBezTo>
                  <a:pt x="9720" y="13990"/>
                  <a:pt x="9848" y="14013"/>
                  <a:pt x="9872" y="13965"/>
                </a:cubicBezTo>
                <a:cubicBezTo>
                  <a:pt x="9872" y="13957"/>
                  <a:pt x="9872" y="13948"/>
                  <a:pt x="9872" y="13940"/>
                </a:cubicBezTo>
                <a:cubicBezTo>
                  <a:pt x="9910" y="13927"/>
                  <a:pt x="9897" y="13911"/>
                  <a:pt x="9897" y="13866"/>
                </a:cubicBezTo>
                <a:cubicBezTo>
                  <a:pt x="9897" y="13809"/>
                  <a:pt x="9877" y="13682"/>
                  <a:pt x="9922" y="13667"/>
                </a:cubicBezTo>
              </a:path>
              <a:path w="2208" h="1266">
                <a:moveTo>
                  <a:pt x="9302" y="13370"/>
                </a:moveTo>
                <a:cubicBezTo>
                  <a:pt x="9302" y="13345"/>
                  <a:pt x="9302" y="13337"/>
                  <a:pt x="9302" y="13320"/>
                </a:cubicBezTo>
                <a:cubicBezTo>
                  <a:pt x="9434" y="13320"/>
                  <a:pt x="9567" y="13320"/>
                  <a:pt x="9699" y="13320"/>
                </a:cubicBezTo>
              </a:path>
              <a:path w="2208" h="1266">
                <a:moveTo>
                  <a:pt x="10344" y="13320"/>
                </a:moveTo>
                <a:cubicBezTo>
                  <a:pt x="10468" y="13320"/>
                  <a:pt x="10592" y="13320"/>
                  <a:pt x="10716" y="13320"/>
                </a:cubicBezTo>
              </a:path>
              <a:path w="2208" h="1266">
                <a:moveTo>
                  <a:pt x="11460" y="13221"/>
                </a:moveTo>
                <a:cubicBezTo>
                  <a:pt x="11383" y="13221"/>
                  <a:pt x="11326" y="13224"/>
                  <a:pt x="11261" y="13246"/>
                </a:cubicBezTo>
                <a:cubicBezTo>
                  <a:pt x="11226" y="13258"/>
                  <a:pt x="11211" y="13310"/>
                  <a:pt x="11187" y="13345"/>
                </a:cubicBezTo>
                <a:cubicBezTo>
                  <a:pt x="11155" y="13390"/>
                  <a:pt x="11137" y="13387"/>
                  <a:pt x="11137" y="13444"/>
                </a:cubicBezTo>
                <a:cubicBezTo>
                  <a:pt x="11137" y="13498"/>
                  <a:pt x="11204" y="13473"/>
                  <a:pt x="11237" y="13494"/>
                </a:cubicBezTo>
                <a:cubicBezTo>
                  <a:pt x="11307" y="13539"/>
                  <a:pt x="11368" y="13617"/>
                  <a:pt x="11435" y="13667"/>
                </a:cubicBezTo>
                <a:cubicBezTo>
                  <a:pt x="11464" y="13689"/>
                  <a:pt x="11467" y="13733"/>
                  <a:pt x="11485" y="13742"/>
                </a:cubicBezTo>
                <a:cubicBezTo>
                  <a:pt x="11518" y="13759"/>
                  <a:pt x="11509" y="13769"/>
                  <a:pt x="11509" y="13816"/>
                </a:cubicBezTo>
                <a:cubicBezTo>
                  <a:pt x="11509" y="13891"/>
                  <a:pt x="11472" y="13936"/>
                  <a:pt x="11410" y="13990"/>
                </a:cubicBezTo>
                <a:cubicBezTo>
                  <a:pt x="11368" y="14026"/>
                  <a:pt x="11267" y="14124"/>
                  <a:pt x="11212" y="14139"/>
                </a:cubicBezTo>
                <a:cubicBezTo>
                  <a:pt x="11179" y="14148"/>
                  <a:pt x="11124" y="14139"/>
                  <a:pt x="11088" y="14139"/>
                </a:cubicBezTo>
                <a:cubicBezTo>
                  <a:pt x="11088" y="14043"/>
                  <a:pt x="11068" y="13929"/>
                  <a:pt x="11112" y="13841"/>
                </a:cubicBezTo>
                <a:cubicBezTo>
                  <a:pt x="11149" y="13767"/>
                  <a:pt x="11274" y="13720"/>
                  <a:pt x="11311" y="13667"/>
                </a:cubicBezTo>
                <a:cubicBezTo>
                  <a:pt x="11324" y="13648"/>
                  <a:pt x="11350" y="13626"/>
                  <a:pt x="11361" y="13593"/>
                </a:cubicBezTo>
                <a:cubicBezTo>
                  <a:pt x="11371" y="13563"/>
                  <a:pt x="11382" y="13523"/>
                  <a:pt x="11385" y="13494"/>
                </a:cubicBezTo>
                <a:cubicBezTo>
                  <a:pt x="11394" y="13413"/>
                  <a:pt x="11385" y="13327"/>
                  <a:pt x="11385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0160" y="4680000"/>
            <a:ext cx="687600" cy="401760"/>
          </a:xfrm>
          <a:custGeom>
            <a:avLst/>
            <a:gdLst/>
            <a:ahLst/>
            <a:rect l="l" t="t" r="r" b="b"/>
            <a:pathLst>
              <a:path w="1911" h="1117">
                <a:moveTo>
                  <a:pt x="12055" y="13370"/>
                </a:moveTo>
                <a:cubicBezTo>
                  <a:pt x="12106" y="13360"/>
                  <a:pt x="12154" y="13329"/>
                  <a:pt x="12204" y="13320"/>
                </a:cubicBezTo>
                <a:cubicBezTo>
                  <a:pt x="12260" y="13310"/>
                  <a:pt x="12324" y="13301"/>
                  <a:pt x="12378" y="13295"/>
                </a:cubicBezTo>
                <a:cubicBezTo>
                  <a:pt x="12402" y="13295"/>
                  <a:pt x="12411" y="13295"/>
                  <a:pt x="12427" y="13295"/>
                </a:cubicBezTo>
              </a:path>
              <a:path w="1911" h="1117">
                <a:moveTo>
                  <a:pt x="12105" y="13643"/>
                </a:moveTo>
                <a:cubicBezTo>
                  <a:pt x="12245" y="13643"/>
                  <a:pt x="12386" y="13643"/>
                  <a:pt x="12526" y="13643"/>
                </a:cubicBezTo>
              </a:path>
              <a:path w="1911" h="1117">
                <a:moveTo>
                  <a:pt x="12973" y="13196"/>
                </a:moveTo>
                <a:cubicBezTo>
                  <a:pt x="12981" y="13143"/>
                  <a:pt x="12981" y="13138"/>
                  <a:pt x="13022" y="13097"/>
                </a:cubicBezTo>
                <a:cubicBezTo>
                  <a:pt x="13060" y="13059"/>
                  <a:pt x="13123" y="13012"/>
                  <a:pt x="13171" y="12998"/>
                </a:cubicBezTo>
                <a:cubicBezTo>
                  <a:pt x="13206" y="12988"/>
                  <a:pt x="13259" y="12998"/>
                  <a:pt x="13295" y="12998"/>
                </a:cubicBezTo>
                <a:cubicBezTo>
                  <a:pt x="13295" y="13075"/>
                  <a:pt x="13321" y="13207"/>
                  <a:pt x="13271" y="13271"/>
                </a:cubicBezTo>
                <a:cubicBezTo>
                  <a:pt x="13218" y="13339"/>
                  <a:pt x="13147" y="13398"/>
                  <a:pt x="13097" y="13469"/>
                </a:cubicBezTo>
                <a:cubicBezTo>
                  <a:pt x="13040" y="13551"/>
                  <a:pt x="13009" y="13627"/>
                  <a:pt x="12948" y="13717"/>
                </a:cubicBezTo>
                <a:cubicBezTo>
                  <a:pt x="12903" y="13783"/>
                  <a:pt x="12879" y="13850"/>
                  <a:pt x="12824" y="13915"/>
                </a:cubicBezTo>
                <a:cubicBezTo>
                  <a:pt x="12772" y="13977"/>
                  <a:pt x="12733" y="14012"/>
                  <a:pt x="12675" y="14064"/>
                </a:cubicBezTo>
                <a:cubicBezTo>
                  <a:pt x="12652" y="14087"/>
                  <a:pt x="12644" y="14091"/>
                  <a:pt x="12650" y="14114"/>
                </a:cubicBezTo>
                <a:cubicBezTo>
                  <a:pt x="12746" y="14114"/>
                  <a:pt x="12771" y="14110"/>
                  <a:pt x="12849" y="14064"/>
                </a:cubicBezTo>
                <a:cubicBezTo>
                  <a:pt x="12903" y="14032"/>
                  <a:pt x="13010" y="14002"/>
                  <a:pt x="13072" y="13990"/>
                </a:cubicBezTo>
                <a:cubicBezTo>
                  <a:pt x="13132" y="13979"/>
                  <a:pt x="13190" y="13968"/>
                  <a:pt x="13246" y="13965"/>
                </a:cubicBezTo>
                <a:cubicBezTo>
                  <a:pt x="13270" y="13964"/>
                  <a:pt x="13296" y="13965"/>
                  <a:pt x="13320" y="13965"/>
                </a:cubicBezTo>
              </a:path>
              <a:path w="1911" h="1117">
                <a:moveTo>
                  <a:pt x="13940" y="13146"/>
                </a:moveTo>
                <a:cubicBezTo>
                  <a:pt x="13940" y="13122"/>
                  <a:pt x="13940" y="13113"/>
                  <a:pt x="13940" y="13097"/>
                </a:cubicBezTo>
                <a:cubicBezTo>
                  <a:pt x="13879" y="13088"/>
                  <a:pt x="13857" y="13072"/>
                  <a:pt x="13791" y="13072"/>
                </a:cubicBezTo>
                <a:cubicBezTo>
                  <a:pt x="13697" y="13072"/>
                  <a:pt x="13539" y="13040"/>
                  <a:pt x="13469" y="13097"/>
                </a:cubicBezTo>
                <a:cubicBezTo>
                  <a:pt x="13441" y="13120"/>
                  <a:pt x="13429" y="13136"/>
                  <a:pt x="13419" y="13171"/>
                </a:cubicBezTo>
                <a:cubicBezTo>
                  <a:pt x="13407" y="13214"/>
                  <a:pt x="13395" y="13249"/>
                  <a:pt x="13395" y="13295"/>
                </a:cubicBezTo>
                <a:cubicBezTo>
                  <a:pt x="13395" y="13368"/>
                  <a:pt x="13400" y="13430"/>
                  <a:pt x="13419" y="13469"/>
                </a:cubicBezTo>
                <a:cubicBezTo>
                  <a:pt x="13438" y="13508"/>
                  <a:pt x="13464" y="13494"/>
                  <a:pt x="13519" y="13494"/>
                </a:cubicBezTo>
                <a:cubicBezTo>
                  <a:pt x="13619" y="13494"/>
                  <a:pt x="13624" y="13490"/>
                  <a:pt x="13692" y="13444"/>
                </a:cubicBezTo>
                <a:cubicBezTo>
                  <a:pt x="13710" y="13432"/>
                  <a:pt x="13804" y="13388"/>
                  <a:pt x="13816" y="13370"/>
                </a:cubicBezTo>
                <a:cubicBezTo>
                  <a:pt x="13828" y="13353"/>
                  <a:pt x="13835" y="13311"/>
                  <a:pt x="13866" y="13295"/>
                </a:cubicBezTo>
                <a:cubicBezTo>
                  <a:pt x="13899" y="13279"/>
                  <a:pt x="13913" y="13249"/>
                  <a:pt x="13940" y="13246"/>
                </a:cubicBezTo>
                <a:cubicBezTo>
                  <a:pt x="13981" y="13241"/>
                  <a:pt x="13965" y="13210"/>
                  <a:pt x="13965" y="13171"/>
                </a:cubicBezTo>
                <a:cubicBezTo>
                  <a:pt x="13965" y="13146"/>
                  <a:pt x="13965" y="13122"/>
                  <a:pt x="13965" y="13097"/>
                </a:cubicBezTo>
                <a:cubicBezTo>
                  <a:pt x="13965" y="13386"/>
                  <a:pt x="13965" y="13676"/>
                  <a:pt x="1396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6120" y="5232240"/>
            <a:ext cx="349200" cy="3049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10716" y="14585"/>
                </a:moveTo>
                <a:cubicBezTo>
                  <a:pt x="10716" y="14767"/>
                  <a:pt x="10716" y="14949"/>
                  <a:pt x="10716" y="15131"/>
                </a:cubicBezTo>
              </a:path>
              <a:path w="969" h="844">
                <a:moveTo>
                  <a:pt x="10517" y="14908"/>
                </a:moveTo>
                <a:cubicBezTo>
                  <a:pt x="10517" y="14900"/>
                  <a:pt x="10517" y="14891"/>
                  <a:pt x="10517" y="14883"/>
                </a:cubicBezTo>
                <a:cubicBezTo>
                  <a:pt x="10633" y="14883"/>
                  <a:pt x="10748" y="14883"/>
                  <a:pt x="10864" y="14883"/>
                </a:cubicBezTo>
              </a:path>
              <a:path w="969" h="844">
                <a:moveTo>
                  <a:pt x="11385" y="14560"/>
                </a:moveTo>
                <a:cubicBezTo>
                  <a:pt x="11373" y="14524"/>
                  <a:pt x="11355" y="14536"/>
                  <a:pt x="11311" y="14536"/>
                </a:cubicBezTo>
                <a:cubicBezTo>
                  <a:pt x="11194" y="14536"/>
                  <a:pt x="11168" y="14601"/>
                  <a:pt x="11112" y="14684"/>
                </a:cubicBezTo>
                <a:cubicBezTo>
                  <a:pt x="11083" y="14726"/>
                  <a:pt x="11088" y="14757"/>
                  <a:pt x="11088" y="14808"/>
                </a:cubicBezTo>
                <a:cubicBezTo>
                  <a:pt x="11088" y="14858"/>
                  <a:pt x="11093" y="14858"/>
                  <a:pt x="11137" y="14883"/>
                </a:cubicBezTo>
                <a:cubicBezTo>
                  <a:pt x="11206" y="14923"/>
                  <a:pt x="11299" y="14942"/>
                  <a:pt x="11361" y="14982"/>
                </a:cubicBezTo>
                <a:cubicBezTo>
                  <a:pt x="11394" y="15003"/>
                  <a:pt x="11431" y="15045"/>
                  <a:pt x="11435" y="15081"/>
                </a:cubicBezTo>
                <a:cubicBezTo>
                  <a:pt x="11442" y="15140"/>
                  <a:pt x="11445" y="15211"/>
                  <a:pt x="11410" y="15255"/>
                </a:cubicBezTo>
                <a:cubicBezTo>
                  <a:pt x="11374" y="15299"/>
                  <a:pt x="11289" y="15358"/>
                  <a:pt x="11237" y="15379"/>
                </a:cubicBezTo>
                <a:cubicBezTo>
                  <a:pt x="11212" y="15379"/>
                  <a:pt x="11204" y="15379"/>
                  <a:pt x="11187" y="15379"/>
                </a:cubicBezTo>
                <a:cubicBezTo>
                  <a:pt x="11187" y="15252"/>
                  <a:pt x="11163" y="15103"/>
                  <a:pt x="11212" y="14982"/>
                </a:cubicBezTo>
                <a:cubicBezTo>
                  <a:pt x="11226" y="14948"/>
                  <a:pt x="11307" y="14890"/>
                  <a:pt x="11336" y="14858"/>
                </a:cubicBezTo>
                <a:cubicBezTo>
                  <a:pt x="11363" y="14828"/>
                  <a:pt x="11427" y="14801"/>
                  <a:pt x="11435" y="14784"/>
                </a:cubicBezTo>
                <a:cubicBezTo>
                  <a:pt x="11450" y="14755"/>
                  <a:pt x="11480" y="14755"/>
                  <a:pt x="11485" y="14709"/>
                </a:cubicBezTo>
                <a:cubicBezTo>
                  <a:pt x="11488" y="14685"/>
                  <a:pt x="11485" y="14659"/>
                  <a:pt x="11485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1360" y="520524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2874" y="14486"/>
                </a:moveTo>
                <a:cubicBezTo>
                  <a:pt x="12874" y="14478"/>
                  <a:pt x="12874" y="14469"/>
                  <a:pt x="12874" y="14461"/>
                </a:cubicBezTo>
                <a:cubicBezTo>
                  <a:pt x="12874" y="14523"/>
                  <a:pt x="12888" y="14554"/>
                  <a:pt x="12898" y="14610"/>
                </a:cubicBezTo>
                <a:cubicBezTo>
                  <a:pt x="12915" y="14711"/>
                  <a:pt x="12898" y="14829"/>
                  <a:pt x="12898" y="14932"/>
                </a:cubicBezTo>
              </a:path>
              <a:path w="472" h="472">
                <a:moveTo>
                  <a:pt x="12725" y="14734"/>
                </a:moveTo>
                <a:cubicBezTo>
                  <a:pt x="12725" y="14661"/>
                  <a:pt x="12736" y="14677"/>
                  <a:pt x="12799" y="14660"/>
                </a:cubicBezTo>
                <a:cubicBezTo>
                  <a:pt x="12901" y="14632"/>
                  <a:pt x="12998" y="14605"/>
                  <a:pt x="13097" y="14585"/>
                </a:cubicBezTo>
                <a:cubicBezTo>
                  <a:pt x="13128" y="14579"/>
                  <a:pt x="13164" y="14585"/>
                  <a:pt x="13196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29120" y="514368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064" y="14337"/>
                </a:moveTo>
                <a:cubicBezTo>
                  <a:pt x="14055" y="14310"/>
                  <a:pt x="14046" y="14292"/>
                  <a:pt x="14015" y="14288"/>
                </a:cubicBezTo>
                <a:cubicBezTo>
                  <a:pt x="13924" y="14277"/>
                  <a:pt x="13795" y="14287"/>
                  <a:pt x="13742" y="14312"/>
                </a:cubicBezTo>
                <a:cubicBezTo>
                  <a:pt x="13707" y="14329"/>
                  <a:pt x="13717" y="14339"/>
                  <a:pt x="13717" y="14387"/>
                </a:cubicBezTo>
                <a:cubicBezTo>
                  <a:pt x="13717" y="14440"/>
                  <a:pt x="13707" y="14472"/>
                  <a:pt x="13742" y="14511"/>
                </a:cubicBezTo>
                <a:cubicBezTo>
                  <a:pt x="13779" y="14552"/>
                  <a:pt x="13815" y="14560"/>
                  <a:pt x="13866" y="14560"/>
                </a:cubicBezTo>
                <a:cubicBezTo>
                  <a:pt x="13931" y="14560"/>
                  <a:pt x="13939" y="14568"/>
                  <a:pt x="13990" y="14585"/>
                </a:cubicBezTo>
                <a:cubicBezTo>
                  <a:pt x="14028" y="14598"/>
                  <a:pt x="14015" y="14615"/>
                  <a:pt x="14015" y="14660"/>
                </a:cubicBezTo>
                <a:cubicBezTo>
                  <a:pt x="14015" y="14730"/>
                  <a:pt x="14036" y="14778"/>
                  <a:pt x="13965" y="14808"/>
                </a:cubicBezTo>
                <a:cubicBezTo>
                  <a:pt x="13901" y="14836"/>
                  <a:pt x="13810" y="14876"/>
                  <a:pt x="13742" y="14883"/>
                </a:cubicBezTo>
                <a:cubicBezTo>
                  <a:pt x="13717" y="14883"/>
                  <a:pt x="13709" y="14883"/>
                  <a:pt x="13692" y="14883"/>
                </a:cubicBezTo>
                <a:cubicBezTo>
                  <a:pt x="13692" y="14828"/>
                  <a:pt x="13679" y="14775"/>
                  <a:pt x="13717" y="14734"/>
                </a:cubicBezTo>
                <a:cubicBezTo>
                  <a:pt x="13781" y="14665"/>
                  <a:pt x="13848" y="14640"/>
                  <a:pt x="13915" y="14585"/>
                </a:cubicBezTo>
                <a:cubicBezTo>
                  <a:pt x="13966" y="14543"/>
                  <a:pt x="13986" y="14554"/>
                  <a:pt x="14039" y="14511"/>
                </a:cubicBezTo>
                <a:cubicBezTo>
                  <a:pt x="14074" y="14482"/>
                  <a:pt x="14064" y="14453"/>
                  <a:pt x="14064" y="14412"/>
                </a:cubicBezTo>
                <a:cubicBezTo>
                  <a:pt x="14064" y="14387"/>
                  <a:pt x="14064" y="14379"/>
                  <a:pt x="1406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5759280"/>
            <a:ext cx="19656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9847" y="15999"/>
                </a:moveTo>
                <a:cubicBezTo>
                  <a:pt x="9816" y="16043"/>
                  <a:pt x="9823" y="16066"/>
                  <a:pt x="9823" y="16123"/>
                </a:cubicBezTo>
                <a:cubicBezTo>
                  <a:pt x="9823" y="16338"/>
                  <a:pt x="9823" y="16553"/>
                  <a:pt x="9823" y="16768"/>
                </a:cubicBezTo>
                <a:cubicBezTo>
                  <a:pt x="9878" y="16768"/>
                  <a:pt x="10069" y="16797"/>
                  <a:pt x="10096" y="16743"/>
                </a:cubicBezTo>
                <a:cubicBezTo>
                  <a:pt x="10113" y="16708"/>
                  <a:pt x="10117" y="16683"/>
                  <a:pt x="10120" y="16644"/>
                </a:cubicBezTo>
                <a:cubicBezTo>
                  <a:pt x="10125" y="16587"/>
                  <a:pt x="10120" y="16527"/>
                  <a:pt x="10120" y="16470"/>
                </a:cubicBezTo>
              </a:path>
              <a:path w="546" h="770">
                <a:moveTo>
                  <a:pt x="9575" y="16272"/>
                </a:moveTo>
                <a:cubicBezTo>
                  <a:pt x="9575" y="16264"/>
                  <a:pt x="9575" y="16255"/>
                  <a:pt x="9575" y="16247"/>
                </a:cubicBezTo>
                <a:cubicBezTo>
                  <a:pt x="9740" y="16247"/>
                  <a:pt x="9906" y="16247"/>
                  <a:pt x="10071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2240" y="5589720"/>
            <a:ext cx="907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410" y="15652"/>
                </a:moveTo>
                <a:cubicBezTo>
                  <a:pt x="11369" y="15652"/>
                  <a:pt x="11327" y="15652"/>
                  <a:pt x="11286" y="15652"/>
                </a:cubicBezTo>
                <a:cubicBezTo>
                  <a:pt x="11286" y="15691"/>
                  <a:pt x="11271" y="15721"/>
                  <a:pt x="11311" y="15726"/>
                </a:cubicBezTo>
                <a:cubicBezTo>
                  <a:pt x="11371" y="15734"/>
                  <a:pt x="11466" y="15739"/>
                  <a:pt x="11509" y="15701"/>
                </a:cubicBezTo>
                <a:cubicBezTo>
                  <a:pt x="11543" y="15671"/>
                  <a:pt x="11534" y="15645"/>
                  <a:pt x="11534" y="15602"/>
                </a:cubicBezTo>
                <a:cubicBezTo>
                  <a:pt x="11534" y="15577"/>
                  <a:pt x="11534" y="15569"/>
                  <a:pt x="11534" y="15553"/>
                </a:cubicBezTo>
                <a:cubicBezTo>
                  <a:pt x="11478" y="15553"/>
                  <a:pt x="11501" y="15533"/>
                  <a:pt x="11460" y="15528"/>
                </a:cubicBezTo>
                <a:cubicBezTo>
                  <a:pt x="11398" y="15520"/>
                  <a:pt x="11360" y="15537"/>
                  <a:pt x="11311" y="15553"/>
                </a:cubicBezTo>
                <a:cubicBezTo>
                  <a:pt x="11273" y="15566"/>
                  <a:pt x="11286" y="15582"/>
                  <a:pt x="11286" y="15627"/>
                </a:cubicBezTo>
                <a:cubicBezTo>
                  <a:pt x="11286" y="15660"/>
                  <a:pt x="11286" y="15693"/>
                  <a:pt x="11286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616720"/>
            <a:ext cx="455400" cy="285480"/>
          </a:xfrm>
          <a:custGeom>
            <a:avLst/>
            <a:gdLst/>
            <a:ahLst/>
            <a:rect l="l" t="t" r="r" b="b"/>
            <a:pathLst>
              <a:path w="1266" h="795">
                <a:moveTo>
                  <a:pt x="12278" y="15949"/>
                </a:moveTo>
                <a:cubicBezTo>
                  <a:pt x="12386" y="15949"/>
                  <a:pt x="12493" y="15949"/>
                  <a:pt x="12601" y="15949"/>
                </a:cubicBezTo>
              </a:path>
              <a:path w="1266" h="795">
                <a:moveTo>
                  <a:pt x="12378" y="16346"/>
                </a:moveTo>
                <a:cubicBezTo>
                  <a:pt x="12469" y="16346"/>
                  <a:pt x="12559" y="16346"/>
                  <a:pt x="12650" y="16346"/>
                </a:cubicBezTo>
              </a:path>
              <a:path w="1266" h="795">
                <a:moveTo>
                  <a:pt x="12948" y="15751"/>
                </a:moveTo>
                <a:cubicBezTo>
                  <a:pt x="13025" y="15751"/>
                  <a:pt x="13033" y="15702"/>
                  <a:pt x="13097" y="15677"/>
                </a:cubicBezTo>
                <a:cubicBezTo>
                  <a:pt x="13181" y="15644"/>
                  <a:pt x="13276" y="15607"/>
                  <a:pt x="13370" y="15602"/>
                </a:cubicBezTo>
                <a:cubicBezTo>
                  <a:pt x="13411" y="15602"/>
                  <a:pt x="13419" y="15602"/>
                  <a:pt x="13444" y="15602"/>
                </a:cubicBezTo>
                <a:cubicBezTo>
                  <a:pt x="13444" y="15694"/>
                  <a:pt x="13434" y="15709"/>
                  <a:pt x="13395" y="15776"/>
                </a:cubicBezTo>
                <a:cubicBezTo>
                  <a:pt x="13370" y="15819"/>
                  <a:pt x="13350" y="15825"/>
                  <a:pt x="13295" y="15825"/>
                </a:cubicBezTo>
                <a:cubicBezTo>
                  <a:pt x="13270" y="15825"/>
                  <a:pt x="13246" y="15825"/>
                  <a:pt x="13221" y="15825"/>
                </a:cubicBezTo>
                <a:cubicBezTo>
                  <a:pt x="13230" y="15852"/>
                  <a:pt x="13255" y="15872"/>
                  <a:pt x="13295" y="15875"/>
                </a:cubicBezTo>
                <a:cubicBezTo>
                  <a:pt x="13366" y="15880"/>
                  <a:pt x="13404" y="15884"/>
                  <a:pt x="13469" y="15900"/>
                </a:cubicBezTo>
                <a:cubicBezTo>
                  <a:pt x="13490" y="15905"/>
                  <a:pt x="13521" y="15900"/>
                  <a:pt x="13543" y="15900"/>
                </a:cubicBezTo>
                <a:cubicBezTo>
                  <a:pt x="13543" y="15991"/>
                  <a:pt x="13580" y="16202"/>
                  <a:pt x="13519" y="16272"/>
                </a:cubicBezTo>
                <a:cubicBezTo>
                  <a:pt x="13470" y="16327"/>
                  <a:pt x="13362" y="16342"/>
                  <a:pt x="13295" y="16371"/>
                </a:cubicBezTo>
                <a:cubicBezTo>
                  <a:pt x="13233" y="16398"/>
                  <a:pt x="13190" y="16396"/>
                  <a:pt x="13122" y="16396"/>
                </a:cubicBezTo>
                <a:cubicBezTo>
                  <a:pt x="13097" y="16396"/>
                  <a:pt x="13089" y="16396"/>
                  <a:pt x="13072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7120" y="5572080"/>
            <a:ext cx="169920" cy="349200"/>
          </a:xfrm>
          <a:custGeom>
            <a:avLst/>
            <a:gdLst/>
            <a:ahLst/>
            <a:rect l="l" t="t" r="r" b="b"/>
            <a:pathLst>
              <a:path w="472" h="969">
                <a:moveTo>
                  <a:pt x="13990" y="15677"/>
                </a:moveTo>
                <a:cubicBezTo>
                  <a:pt x="13990" y="15626"/>
                  <a:pt x="14004" y="15623"/>
                  <a:pt x="14015" y="15602"/>
                </a:cubicBezTo>
                <a:cubicBezTo>
                  <a:pt x="14024" y="15585"/>
                  <a:pt x="14034" y="15543"/>
                  <a:pt x="14064" y="15528"/>
                </a:cubicBezTo>
                <a:cubicBezTo>
                  <a:pt x="14091" y="15515"/>
                  <a:pt x="14108" y="15521"/>
                  <a:pt x="14139" y="15503"/>
                </a:cubicBezTo>
                <a:cubicBezTo>
                  <a:pt x="14180" y="15480"/>
                  <a:pt x="14187" y="15478"/>
                  <a:pt x="14238" y="15478"/>
                </a:cubicBezTo>
                <a:cubicBezTo>
                  <a:pt x="14312" y="15478"/>
                  <a:pt x="14387" y="15478"/>
                  <a:pt x="14461" y="15478"/>
                </a:cubicBezTo>
                <a:cubicBezTo>
                  <a:pt x="14461" y="15542"/>
                  <a:pt x="14470" y="15595"/>
                  <a:pt x="14436" y="15652"/>
                </a:cubicBezTo>
                <a:cubicBezTo>
                  <a:pt x="14401" y="15709"/>
                  <a:pt x="14377" y="15759"/>
                  <a:pt x="14362" y="15825"/>
                </a:cubicBezTo>
                <a:cubicBezTo>
                  <a:pt x="14353" y="15862"/>
                  <a:pt x="14350" y="15913"/>
                  <a:pt x="14337" y="15949"/>
                </a:cubicBezTo>
                <a:cubicBezTo>
                  <a:pt x="14320" y="15995"/>
                  <a:pt x="14296" y="16057"/>
                  <a:pt x="14288" y="16098"/>
                </a:cubicBezTo>
                <a:cubicBezTo>
                  <a:pt x="14279" y="16143"/>
                  <a:pt x="14267" y="16183"/>
                  <a:pt x="14263" y="16222"/>
                </a:cubicBezTo>
                <a:cubicBezTo>
                  <a:pt x="14257" y="16276"/>
                  <a:pt x="14251" y="16296"/>
                  <a:pt x="14238" y="16321"/>
                </a:cubicBezTo>
                <a:cubicBezTo>
                  <a:pt x="14229" y="16340"/>
                  <a:pt x="14219" y="16402"/>
                  <a:pt x="14213" y="16421"/>
                </a:cubicBezTo>
                <a:cubicBezTo>
                  <a:pt x="14213" y="16429"/>
                  <a:pt x="14213" y="16438"/>
                  <a:pt x="14213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19880" y="4537080"/>
            <a:ext cx="1590480" cy="1266840"/>
          </a:xfrm>
          <a:custGeom>
            <a:avLst/>
            <a:gdLst/>
            <a:ahLst/>
            <a:rect l="l" t="t" r="r" b="b"/>
            <a:pathLst>
              <a:path w="4416" h="3523">
                <a:moveTo>
                  <a:pt x="18455" y="12750"/>
                </a:moveTo>
                <a:cubicBezTo>
                  <a:pt x="18389" y="12750"/>
                  <a:pt x="18586" y="12727"/>
                  <a:pt x="18604" y="12725"/>
                </a:cubicBezTo>
                <a:cubicBezTo>
                  <a:pt x="18655" y="12718"/>
                  <a:pt x="18676" y="12700"/>
                  <a:pt x="18728" y="12700"/>
                </a:cubicBezTo>
                <a:cubicBezTo>
                  <a:pt x="18773" y="12700"/>
                  <a:pt x="18901" y="12676"/>
                  <a:pt x="18926" y="12725"/>
                </a:cubicBezTo>
                <a:cubicBezTo>
                  <a:pt x="18967" y="12808"/>
                  <a:pt x="18891" y="12831"/>
                  <a:pt x="18852" y="12874"/>
                </a:cubicBezTo>
                <a:cubicBezTo>
                  <a:pt x="18725" y="13017"/>
                  <a:pt x="18593" y="13054"/>
                  <a:pt x="18430" y="13122"/>
                </a:cubicBezTo>
                <a:cubicBezTo>
                  <a:pt x="18422" y="13130"/>
                  <a:pt x="18413" y="13138"/>
                  <a:pt x="18405" y="13146"/>
                </a:cubicBezTo>
                <a:cubicBezTo>
                  <a:pt x="18348" y="13146"/>
                  <a:pt x="18523" y="13146"/>
                  <a:pt x="18554" y="13146"/>
                </a:cubicBezTo>
                <a:cubicBezTo>
                  <a:pt x="18675" y="13146"/>
                  <a:pt x="18717" y="13145"/>
                  <a:pt x="18802" y="13196"/>
                </a:cubicBezTo>
                <a:cubicBezTo>
                  <a:pt x="18828" y="13211"/>
                  <a:pt x="18847" y="13226"/>
                  <a:pt x="18852" y="13271"/>
                </a:cubicBezTo>
                <a:cubicBezTo>
                  <a:pt x="18861" y="13351"/>
                  <a:pt x="18857" y="13374"/>
                  <a:pt x="18802" y="13419"/>
                </a:cubicBezTo>
                <a:cubicBezTo>
                  <a:pt x="18749" y="13462"/>
                  <a:pt x="18717" y="13485"/>
                  <a:pt x="18653" y="13494"/>
                </a:cubicBezTo>
              </a:path>
              <a:path w="4416" h="3523">
                <a:moveTo>
                  <a:pt x="19273" y="12675"/>
                </a:moveTo>
                <a:cubicBezTo>
                  <a:pt x="19319" y="12660"/>
                  <a:pt x="19346" y="12662"/>
                  <a:pt x="19422" y="12650"/>
                </a:cubicBezTo>
                <a:cubicBezTo>
                  <a:pt x="19511" y="12636"/>
                  <a:pt x="19580" y="12601"/>
                  <a:pt x="19670" y="12601"/>
                </a:cubicBezTo>
                <a:cubicBezTo>
                  <a:pt x="19678" y="12601"/>
                  <a:pt x="19687" y="12601"/>
                  <a:pt x="19695" y="12601"/>
                </a:cubicBezTo>
                <a:cubicBezTo>
                  <a:pt x="19695" y="12741"/>
                  <a:pt x="19694" y="12767"/>
                  <a:pt x="19621" y="12898"/>
                </a:cubicBezTo>
                <a:cubicBezTo>
                  <a:pt x="19577" y="12976"/>
                  <a:pt x="19496" y="13054"/>
                  <a:pt x="19496" y="13146"/>
                </a:cubicBezTo>
                <a:cubicBezTo>
                  <a:pt x="19496" y="13183"/>
                  <a:pt x="19461" y="13178"/>
                  <a:pt x="19447" y="13221"/>
                </a:cubicBezTo>
                <a:cubicBezTo>
                  <a:pt x="19441" y="13240"/>
                  <a:pt x="19447" y="13275"/>
                  <a:pt x="19447" y="13295"/>
                </a:cubicBezTo>
              </a:path>
              <a:path w="4416" h="3523">
                <a:moveTo>
                  <a:pt x="17835" y="14238"/>
                </a:moveTo>
                <a:cubicBezTo>
                  <a:pt x="17855" y="14154"/>
                  <a:pt x="17959" y="14188"/>
                  <a:pt x="18033" y="14188"/>
                </a:cubicBezTo>
                <a:cubicBezTo>
                  <a:pt x="18157" y="14188"/>
                  <a:pt x="18281" y="14188"/>
                  <a:pt x="18405" y="14188"/>
                </a:cubicBezTo>
              </a:path>
              <a:path w="4416" h="3523">
                <a:moveTo>
                  <a:pt x="19720" y="13816"/>
                </a:moveTo>
                <a:cubicBezTo>
                  <a:pt x="19645" y="13816"/>
                  <a:pt x="19571" y="13816"/>
                  <a:pt x="19496" y="13816"/>
                </a:cubicBezTo>
                <a:cubicBezTo>
                  <a:pt x="19496" y="13917"/>
                  <a:pt x="19490" y="13958"/>
                  <a:pt x="19546" y="14039"/>
                </a:cubicBezTo>
                <a:cubicBezTo>
                  <a:pt x="19607" y="14126"/>
                  <a:pt x="19670" y="14199"/>
                  <a:pt x="19745" y="14263"/>
                </a:cubicBezTo>
                <a:cubicBezTo>
                  <a:pt x="19787" y="14298"/>
                  <a:pt x="19848" y="14364"/>
                  <a:pt x="19869" y="14412"/>
                </a:cubicBezTo>
                <a:cubicBezTo>
                  <a:pt x="19895" y="14474"/>
                  <a:pt x="19874" y="14600"/>
                  <a:pt x="19819" y="14635"/>
                </a:cubicBezTo>
                <a:cubicBezTo>
                  <a:pt x="19780" y="14660"/>
                  <a:pt x="19748" y="14684"/>
                  <a:pt x="19695" y="14684"/>
                </a:cubicBezTo>
                <a:cubicBezTo>
                  <a:pt x="19695" y="14516"/>
                  <a:pt x="19683" y="14347"/>
                  <a:pt x="19720" y="14188"/>
                </a:cubicBezTo>
                <a:cubicBezTo>
                  <a:pt x="19735" y="14123"/>
                  <a:pt x="19739" y="13797"/>
                  <a:pt x="19695" y="13791"/>
                </a:cubicBezTo>
                <a:cubicBezTo>
                  <a:pt x="19670" y="13791"/>
                  <a:pt x="19662" y="13791"/>
                  <a:pt x="19645" y="13791"/>
                </a:cubicBezTo>
              </a:path>
              <a:path w="4416" h="3523">
                <a:moveTo>
                  <a:pt x="18058" y="15056"/>
                </a:moveTo>
                <a:cubicBezTo>
                  <a:pt x="18076" y="15042"/>
                  <a:pt x="18125" y="15011"/>
                  <a:pt x="18157" y="14982"/>
                </a:cubicBezTo>
                <a:cubicBezTo>
                  <a:pt x="18208" y="14935"/>
                  <a:pt x="18288" y="14945"/>
                  <a:pt x="18355" y="14932"/>
                </a:cubicBezTo>
                <a:cubicBezTo>
                  <a:pt x="18536" y="14898"/>
                  <a:pt x="18717" y="14867"/>
                  <a:pt x="18901" y="14858"/>
                </a:cubicBezTo>
                <a:cubicBezTo>
                  <a:pt x="19320" y="14837"/>
                  <a:pt x="19746" y="14858"/>
                  <a:pt x="20166" y="14858"/>
                </a:cubicBezTo>
              </a:path>
              <a:path w="4416" h="3523">
                <a:moveTo>
                  <a:pt x="19000" y="15429"/>
                </a:moveTo>
                <a:cubicBezTo>
                  <a:pt x="18964" y="15416"/>
                  <a:pt x="18976" y="15398"/>
                  <a:pt x="18976" y="15354"/>
                </a:cubicBezTo>
                <a:cubicBezTo>
                  <a:pt x="18976" y="15290"/>
                  <a:pt x="19072" y="15270"/>
                  <a:pt x="19124" y="15255"/>
                </a:cubicBezTo>
                <a:cubicBezTo>
                  <a:pt x="19162" y="15244"/>
                  <a:pt x="19188" y="15217"/>
                  <a:pt x="19224" y="15205"/>
                </a:cubicBezTo>
                <a:cubicBezTo>
                  <a:pt x="19243" y="15199"/>
                  <a:pt x="19278" y="15205"/>
                  <a:pt x="19298" y="15205"/>
                </a:cubicBezTo>
                <a:cubicBezTo>
                  <a:pt x="19298" y="15276"/>
                  <a:pt x="19300" y="15334"/>
                  <a:pt x="19273" y="15404"/>
                </a:cubicBezTo>
                <a:cubicBezTo>
                  <a:pt x="19239" y="15494"/>
                  <a:pt x="19150" y="15658"/>
                  <a:pt x="19075" y="15726"/>
                </a:cubicBezTo>
                <a:cubicBezTo>
                  <a:pt x="19050" y="15749"/>
                  <a:pt x="18992" y="15826"/>
                  <a:pt x="18951" y="15850"/>
                </a:cubicBezTo>
                <a:cubicBezTo>
                  <a:pt x="18923" y="15866"/>
                  <a:pt x="18906" y="15885"/>
                  <a:pt x="18876" y="15900"/>
                </a:cubicBezTo>
                <a:cubicBezTo>
                  <a:pt x="18988" y="15900"/>
                  <a:pt x="19094" y="15909"/>
                  <a:pt x="19199" y="15875"/>
                </a:cubicBezTo>
                <a:cubicBezTo>
                  <a:pt x="19283" y="15848"/>
                  <a:pt x="19368" y="15814"/>
                  <a:pt x="19447" y="15776"/>
                </a:cubicBezTo>
                <a:cubicBezTo>
                  <a:pt x="19496" y="15753"/>
                  <a:pt x="19544" y="15736"/>
                  <a:pt x="19596" y="15726"/>
                </a:cubicBezTo>
              </a:path>
              <a:path w="4416" h="3523">
                <a:moveTo>
                  <a:pt x="19943" y="15304"/>
                </a:moveTo>
                <a:cubicBezTo>
                  <a:pt x="19926" y="15238"/>
                  <a:pt x="19884" y="15270"/>
                  <a:pt x="19844" y="15205"/>
                </a:cubicBezTo>
                <a:cubicBezTo>
                  <a:pt x="19831" y="15184"/>
                  <a:pt x="19780" y="15122"/>
                  <a:pt x="19745" y="15106"/>
                </a:cubicBezTo>
                <a:cubicBezTo>
                  <a:pt x="19707" y="15089"/>
                  <a:pt x="19546" y="15096"/>
                  <a:pt x="19521" y="15131"/>
                </a:cubicBezTo>
                <a:cubicBezTo>
                  <a:pt x="19490" y="15174"/>
                  <a:pt x="19496" y="15206"/>
                  <a:pt x="19496" y="15255"/>
                </a:cubicBezTo>
                <a:cubicBezTo>
                  <a:pt x="19496" y="15305"/>
                  <a:pt x="19479" y="15341"/>
                  <a:pt x="19546" y="15354"/>
                </a:cubicBezTo>
                <a:cubicBezTo>
                  <a:pt x="19633" y="15371"/>
                  <a:pt x="19648" y="15424"/>
                  <a:pt x="19745" y="15429"/>
                </a:cubicBezTo>
                <a:cubicBezTo>
                  <a:pt x="19808" y="15432"/>
                  <a:pt x="19896" y="15446"/>
                  <a:pt x="19943" y="15404"/>
                </a:cubicBezTo>
                <a:cubicBezTo>
                  <a:pt x="19977" y="15373"/>
                  <a:pt x="19968" y="15347"/>
                  <a:pt x="19968" y="15304"/>
                </a:cubicBezTo>
                <a:cubicBezTo>
                  <a:pt x="19968" y="15296"/>
                  <a:pt x="19968" y="15288"/>
                  <a:pt x="19968" y="15280"/>
                </a:cubicBezTo>
                <a:cubicBezTo>
                  <a:pt x="19968" y="15226"/>
                  <a:pt x="19968" y="15445"/>
                  <a:pt x="19968" y="15478"/>
                </a:cubicBezTo>
                <a:cubicBezTo>
                  <a:pt x="19968" y="15637"/>
                  <a:pt x="19958" y="15799"/>
                  <a:pt x="19993" y="15949"/>
                </a:cubicBezTo>
                <a:cubicBezTo>
                  <a:pt x="19998" y="15971"/>
                  <a:pt x="19993" y="16002"/>
                  <a:pt x="19993" y="16024"/>
                </a:cubicBezTo>
              </a:path>
              <a:path w="4416" h="3523">
                <a:moveTo>
                  <a:pt x="21456" y="15726"/>
                </a:moveTo>
                <a:cubicBezTo>
                  <a:pt x="21536" y="15780"/>
                  <a:pt x="21575" y="15818"/>
                  <a:pt x="21630" y="15900"/>
                </a:cubicBezTo>
                <a:cubicBezTo>
                  <a:pt x="21681" y="15976"/>
                  <a:pt x="21720" y="16047"/>
                  <a:pt x="21754" y="16123"/>
                </a:cubicBezTo>
                <a:cubicBezTo>
                  <a:pt x="21807" y="15886"/>
                  <a:pt x="21840" y="15644"/>
                  <a:pt x="21878" y="15404"/>
                </a:cubicBezTo>
                <a:cubicBezTo>
                  <a:pt x="21935" y="15047"/>
                  <a:pt x="22068" y="14745"/>
                  <a:pt x="22200" y="14412"/>
                </a:cubicBezTo>
                <a:cubicBezTo>
                  <a:pt x="22218" y="14366"/>
                  <a:pt x="22233" y="14327"/>
                  <a:pt x="22250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98880" y="5464080"/>
            <a:ext cx="2401920" cy="243000"/>
          </a:xfrm>
          <a:custGeom>
            <a:avLst/>
            <a:gdLst/>
            <a:ahLst/>
            <a:rect l="l" t="t" r="r" b="b"/>
            <a:pathLst>
              <a:path w="6674" h="671">
                <a:moveTo>
                  <a:pt x="8607" y="15850"/>
                </a:moveTo>
                <a:cubicBezTo>
                  <a:pt x="8624" y="15846"/>
                  <a:pt x="8704" y="15808"/>
                  <a:pt x="8756" y="15801"/>
                </a:cubicBezTo>
                <a:cubicBezTo>
                  <a:pt x="9013" y="15766"/>
                  <a:pt x="9267" y="15748"/>
                  <a:pt x="9525" y="15726"/>
                </a:cubicBezTo>
                <a:cubicBezTo>
                  <a:pt x="9615" y="15718"/>
                  <a:pt x="9710" y="15693"/>
                  <a:pt x="9798" y="15677"/>
                </a:cubicBezTo>
                <a:cubicBezTo>
                  <a:pt x="10053" y="15631"/>
                  <a:pt x="10308" y="15589"/>
                  <a:pt x="10567" y="15553"/>
                </a:cubicBezTo>
                <a:cubicBezTo>
                  <a:pt x="10816" y="15518"/>
                  <a:pt x="11063" y="15480"/>
                  <a:pt x="11311" y="15453"/>
                </a:cubicBezTo>
                <a:cubicBezTo>
                  <a:pt x="11458" y="15437"/>
                  <a:pt x="11611" y="15414"/>
                  <a:pt x="11757" y="15379"/>
                </a:cubicBezTo>
                <a:cubicBezTo>
                  <a:pt x="11956" y="15331"/>
                  <a:pt x="12151" y="15287"/>
                  <a:pt x="12353" y="15255"/>
                </a:cubicBezTo>
                <a:cubicBezTo>
                  <a:pt x="12629" y="15212"/>
                  <a:pt x="12917" y="15230"/>
                  <a:pt x="13196" y="15230"/>
                </a:cubicBezTo>
                <a:cubicBezTo>
                  <a:pt x="13832" y="15230"/>
                  <a:pt x="14530" y="15300"/>
                  <a:pt x="15156" y="15205"/>
                </a:cubicBezTo>
                <a:cubicBezTo>
                  <a:pt x="15208" y="15197"/>
                  <a:pt x="15235" y="15188"/>
                  <a:pt x="15280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x - 2 = 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13 = n -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m – 3.1 = 11.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9120" y="1214280"/>
            <a:ext cx="501840" cy="179640"/>
          </a:xfrm>
          <a:custGeom>
            <a:avLst/>
            <a:gdLst/>
            <a:ahLst/>
            <a:rect l="l" t="t" r="r" b="b"/>
            <a:pathLst>
              <a:path w="1390" h="498">
                <a:moveTo>
                  <a:pt x="4192" y="3473"/>
                </a:moveTo>
                <a:cubicBezTo>
                  <a:pt x="4192" y="3541"/>
                  <a:pt x="4186" y="3590"/>
                  <a:pt x="4167" y="3646"/>
                </a:cubicBezTo>
                <a:cubicBezTo>
                  <a:pt x="4154" y="3685"/>
                  <a:pt x="4167" y="3753"/>
                  <a:pt x="4167" y="3795"/>
                </a:cubicBezTo>
              </a:path>
              <a:path w="1390" h="498">
                <a:moveTo>
                  <a:pt x="3944" y="3646"/>
                </a:moveTo>
                <a:cubicBezTo>
                  <a:pt x="4209" y="3646"/>
                  <a:pt x="4473" y="3646"/>
                  <a:pt x="4738" y="3646"/>
                </a:cubicBezTo>
              </a:path>
              <a:path w="1390" h="498">
                <a:moveTo>
                  <a:pt x="4862" y="3448"/>
                </a:moveTo>
                <a:cubicBezTo>
                  <a:pt x="4871" y="3422"/>
                  <a:pt x="4880" y="3402"/>
                  <a:pt x="4911" y="3398"/>
                </a:cubicBezTo>
                <a:cubicBezTo>
                  <a:pt x="4952" y="3393"/>
                  <a:pt x="4965" y="3373"/>
                  <a:pt x="5011" y="3373"/>
                </a:cubicBezTo>
                <a:cubicBezTo>
                  <a:pt x="5036" y="3373"/>
                  <a:pt x="5060" y="3373"/>
                  <a:pt x="5085" y="3373"/>
                </a:cubicBezTo>
                <a:cubicBezTo>
                  <a:pt x="5085" y="3474"/>
                  <a:pt x="5099" y="3579"/>
                  <a:pt x="5060" y="3671"/>
                </a:cubicBezTo>
                <a:cubicBezTo>
                  <a:pt x="5042" y="3714"/>
                  <a:pt x="5008" y="3783"/>
                  <a:pt x="4986" y="3795"/>
                </a:cubicBezTo>
                <a:cubicBezTo>
                  <a:pt x="4945" y="3817"/>
                  <a:pt x="4895" y="3826"/>
                  <a:pt x="4862" y="3845"/>
                </a:cubicBezTo>
                <a:cubicBezTo>
                  <a:pt x="4802" y="3878"/>
                  <a:pt x="4823" y="3897"/>
                  <a:pt x="4887" y="3870"/>
                </a:cubicBezTo>
                <a:cubicBezTo>
                  <a:pt x="4931" y="3851"/>
                  <a:pt x="4981" y="3826"/>
                  <a:pt x="5035" y="3820"/>
                </a:cubicBezTo>
                <a:cubicBezTo>
                  <a:pt x="5132" y="3810"/>
                  <a:pt x="5235" y="3820"/>
                  <a:pt x="5333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625760"/>
            <a:ext cx="223920" cy="374400"/>
          </a:xfrm>
          <a:custGeom>
            <a:avLst/>
            <a:gdLst/>
            <a:ahLst/>
            <a:rect l="l" t="t" r="r" b="b"/>
            <a:pathLst>
              <a:path w="622" h="1043">
                <a:moveTo>
                  <a:pt x="3572" y="4663"/>
                </a:moveTo>
                <a:cubicBezTo>
                  <a:pt x="3602" y="4617"/>
                  <a:pt x="3773" y="4719"/>
                  <a:pt x="3820" y="4762"/>
                </a:cubicBezTo>
                <a:cubicBezTo>
                  <a:pt x="3922" y="4854"/>
                  <a:pt x="4029" y="5001"/>
                  <a:pt x="4068" y="5135"/>
                </a:cubicBezTo>
                <a:cubicBezTo>
                  <a:pt x="4068" y="5159"/>
                  <a:pt x="4068" y="5168"/>
                  <a:pt x="4068" y="5184"/>
                </a:cubicBezTo>
              </a:path>
              <a:path w="622" h="1043">
                <a:moveTo>
                  <a:pt x="4118" y="4514"/>
                </a:moveTo>
                <a:cubicBezTo>
                  <a:pt x="4010" y="4622"/>
                  <a:pt x="3916" y="4751"/>
                  <a:pt x="3845" y="4887"/>
                </a:cubicBezTo>
                <a:cubicBezTo>
                  <a:pt x="3765" y="5041"/>
                  <a:pt x="3702" y="5205"/>
                  <a:pt x="3621" y="5358"/>
                </a:cubicBezTo>
                <a:cubicBezTo>
                  <a:pt x="3594" y="5409"/>
                  <a:pt x="3545" y="5481"/>
                  <a:pt x="3522" y="5531"/>
                </a:cubicBezTo>
                <a:cubicBezTo>
                  <a:pt x="3522" y="5556"/>
                  <a:pt x="3522" y="5564"/>
                  <a:pt x="3497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1616040"/>
            <a:ext cx="465120" cy="223920"/>
          </a:xfrm>
          <a:custGeom>
            <a:avLst/>
            <a:gdLst/>
            <a:ahLst/>
            <a:rect l="l" t="t" r="r" b="b"/>
            <a:pathLst>
              <a:path w="1291" h="621">
                <a:moveTo>
                  <a:pt x="5110" y="4564"/>
                </a:moveTo>
                <a:cubicBezTo>
                  <a:pt x="5110" y="4539"/>
                  <a:pt x="5110" y="4531"/>
                  <a:pt x="5085" y="4539"/>
                </a:cubicBezTo>
                <a:cubicBezTo>
                  <a:pt x="5085" y="4622"/>
                  <a:pt x="5085" y="4704"/>
                  <a:pt x="5085" y="4787"/>
                </a:cubicBezTo>
                <a:cubicBezTo>
                  <a:pt x="5175" y="4787"/>
                  <a:pt x="5278" y="4807"/>
                  <a:pt x="5358" y="4762"/>
                </a:cubicBezTo>
                <a:cubicBezTo>
                  <a:pt x="5402" y="4737"/>
                  <a:pt x="5407" y="4738"/>
                  <a:pt x="5407" y="4688"/>
                </a:cubicBezTo>
                <a:cubicBezTo>
                  <a:pt x="5407" y="4644"/>
                  <a:pt x="5431" y="4514"/>
                  <a:pt x="5383" y="4490"/>
                </a:cubicBezTo>
                <a:cubicBezTo>
                  <a:pt x="5318" y="4458"/>
                  <a:pt x="5166" y="4496"/>
                  <a:pt x="5110" y="4514"/>
                </a:cubicBezTo>
                <a:cubicBezTo>
                  <a:pt x="5076" y="4525"/>
                  <a:pt x="5081" y="4554"/>
                  <a:pt x="5060" y="4564"/>
                </a:cubicBezTo>
                <a:cubicBezTo>
                  <a:pt x="5052" y="4564"/>
                  <a:pt x="5043" y="4564"/>
                  <a:pt x="5035" y="4564"/>
                </a:cubicBezTo>
              </a:path>
              <a:path w="1291" h="621">
                <a:moveTo>
                  <a:pt x="5730" y="4688"/>
                </a:moveTo>
                <a:cubicBezTo>
                  <a:pt x="5821" y="4688"/>
                  <a:pt x="5912" y="4688"/>
                  <a:pt x="6003" y="4688"/>
                </a:cubicBezTo>
              </a:path>
              <a:path w="1291" h="621">
                <a:moveTo>
                  <a:pt x="5829" y="5060"/>
                </a:moveTo>
                <a:cubicBezTo>
                  <a:pt x="5927" y="5060"/>
                  <a:pt x="6007" y="5059"/>
                  <a:pt x="6102" y="5085"/>
                </a:cubicBezTo>
                <a:cubicBezTo>
                  <a:pt x="6176" y="5105"/>
                  <a:pt x="6224" y="5110"/>
                  <a:pt x="6300" y="5110"/>
                </a:cubicBezTo>
                <a:cubicBezTo>
                  <a:pt x="6308" y="5110"/>
                  <a:pt x="6317" y="5110"/>
                  <a:pt x="6325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30280" y="1231920"/>
            <a:ext cx="428760" cy="554040"/>
          </a:xfrm>
          <a:custGeom>
            <a:avLst/>
            <a:gdLst/>
            <a:ahLst/>
            <a:rect l="l" t="t" r="r" b="b"/>
            <a:pathLst>
              <a:path w="1192" h="1539">
                <a:moveTo>
                  <a:pt x="6573" y="3572"/>
                </a:moveTo>
                <a:cubicBezTo>
                  <a:pt x="6573" y="3504"/>
                  <a:pt x="6573" y="3657"/>
                  <a:pt x="6573" y="3671"/>
                </a:cubicBezTo>
                <a:cubicBezTo>
                  <a:pt x="6573" y="3712"/>
                  <a:pt x="6573" y="3754"/>
                  <a:pt x="6573" y="3795"/>
                </a:cubicBezTo>
              </a:path>
              <a:path w="1192" h="1539">
                <a:moveTo>
                  <a:pt x="6474" y="3721"/>
                </a:moveTo>
                <a:cubicBezTo>
                  <a:pt x="6474" y="3713"/>
                  <a:pt x="6474" y="3704"/>
                  <a:pt x="6474" y="3696"/>
                </a:cubicBezTo>
                <a:cubicBezTo>
                  <a:pt x="6557" y="3696"/>
                  <a:pt x="6639" y="3696"/>
                  <a:pt x="6722" y="3696"/>
                </a:cubicBezTo>
              </a:path>
              <a:path w="1192" h="1539">
                <a:moveTo>
                  <a:pt x="6896" y="3572"/>
                </a:moveTo>
                <a:cubicBezTo>
                  <a:pt x="6896" y="3519"/>
                  <a:pt x="6907" y="3511"/>
                  <a:pt x="6945" y="3473"/>
                </a:cubicBezTo>
                <a:cubicBezTo>
                  <a:pt x="6975" y="3443"/>
                  <a:pt x="7026" y="3427"/>
                  <a:pt x="7069" y="3423"/>
                </a:cubicBezTo>
                <a:cubicBezTo>
                  <a:pt x="7094" y="3423"/>
                  <a:pt x="7102" y="3423"/>
                  <a:pt x="7119" y="3423"/>
                </a:cubicBezTo>
                <a:cubicBezTo>
                  <a:pt x="7119" y="3492"/>
                  <a:pt x="7140" y="3595"/>
                  <a:pt x="7094" y="3646"/>
                </a:cubicBezTo>
                <a:cubicBezTo>
                  <a:pt x="7059" y="3685"/>
                  <a:pt x="6997" y="3756"/>
                  <a:pt x="6945" y="3770"/>
                </a:cubicBezTo>
                <a:cubicBezTo>
                  <a:pt x="6888" y="3785"/>
                  <a:pt x="6866" y="3805"/>
                  <a:pt x="6821" y="3845"/>
                </a:cubicBezTo>
                <a:cubicBezTo>
                  <a:pt x="6787" y="3875"/>
                  <a:pt x="6796" y="3901"/>
                  <a:pt x="6796" y="3944"/>
                </a:cubicBezTo>
                <a:cubicBezTo>
                  <a:pt x="6901" y="3944"/>
                  <a:pt x="7002" y="3944"/>
                  <a:pt x="7094" y="3919"/>
                </a:cubicBezTo>
                <a:cubicBezTo>
                  <a:pt x="7136" y="3907"/>
                  <a:pt x="7199" y="3919"/>
                  <a:pt x="7243" y="3919"/>
                </a:cubicBezTo>
              </a:path>
              <a:path w="1192" h="1539">
                <a:moveTo>
                  <a:pt x="6871" y="4539"/>
                </a:moveTo>
                <a:cubicBezTo>
                  <a:pt x="6857" y="4625"/>
                  <a:pt x="6846" y="4697"/>
                  <a:pt x="6846" y="4787"/>
                </a:cubicBezTo>
                <a:cubicBezTo>
                  <a:pt x="6846" y="4856"/>
                  <a:pt x="6837" y="4872"/>
                  <a:pt x="6821" y="4936"/>
                </a:cubicBezTo>
                <a:cubicBezTo>
                  <a:pt x="6821" y="4944"/>
                  <a:pt x="6821" y="4953"/>
                  <a:pt x="6821" y="4961"/>
                </a:cubicBezTo>
              </a:path>
              <a:path w="1192" h="1539">
                <a:moveTo>
                  <a:pt x="7243" y="4490"/>
                </a:moveTo>
                <a:cubicBezTo>
                  <a:pt x="7209" y="4498"/>
                  <a:pt x="7155" y="4563"/>
                  <a:pt x="7144" y="4589"/>
                </a:cubicBezTo>
                <a:cubicBezTo>
                  <a:pt x="7130" y="4625"/>
                  <a:pt x="7119" y="4671"/>
                  <a:pt x="7119" y="4713"/>
                </a:cubicBezTo>
                <a:cubicBezTo>
                  <a:pt x="7119" y="4761"/>
                  <a:pt x="7109" y="4771"/>
                  <a:pt x="7144" y="4787"/>
                </a:cubicBezTo>
                <a:cubicBezTo>
                  <a:pt x="7205" y="4815"/>
                  <a:pt x="7265" y="4834"/>
                  <a:pt x="7317" y="4862"/>
                </a:cubicBezTo>
                <a:cubicBezTo>
                  <a:pt x="7366" y="4888"/>
                  <a:pt x="7389" y="4887"/>
                  <a:pt x="7441" y="4887"/>
                </a:cubicBezTo>
                <a:cubicBezTo>
                  <a:pt x="7491" y="4887"/>
                  <a:pt x="7540" y="4887"/>
                  <a:pt x="7590" y="4887"/>
                </a:cubicBezTo>
                <a:cubicBezTo>
                  <a:pt x="7599" y="4824"/>
                  <a:pt x="7622" y="4751"/>
                  <a:pt x="7640" y="4688"/>
                </a:cubicBezTo>
                <a:cubicBezTo>
                  <a:pt x="7656" y="4634"/>
                  <a:pt x="7665" y="4619"/>
                  <a:pt x="7665" y="4564"/>
                </a:cubicBezTo>
                <a:cubicBezTo>
                  <a:pt x="7665" y="4491"/>
                  <a:pt x="7663" y="4497"/>
                  <a:pt x="7615" y="4465"/>
                </a:cubicBezTo>
                <a:cubicBezTo>
                  <a:pt x="7571" y="4436"/>
                  <a:pt x="7576" y="4408"/>
                  <a:pt x="7516" y="4390"/>
                </a:cubicBezTo>
                <a:cubicBezTo>
                  <a:pt x="7507" y="4387"/>
                  <a:pt x="7420" y="4369"/>
                  <a:pt x="7417" y="4366"/>
                </a:cubicBezTo>
                <a:cubicBezTo>
                  <a:pt x="7394" y="4337"/>
                  <a:pt x="7395" y="4341"/>
                  <a:pt x="7342" y="4341"/>
                </a:cubicBezTo>
                <a:cubicBezTo>
                  <a:pt x="7291" y="4341"/>
                  <a:pt x="7289" y="4356"/>
                  <a:pt x="7268" y="4366"/>
                </a:cubicBezTo>
                <a:cubicBezTo>
                  <a:pt x="7232" y="4384"/>
                  <a:pt x="7229" y="4370"/>
                  <a:pt x="7218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20920" y="2982960"/>
            <a:ext cx="465120" cy="133200"/>
          </a:xfrm>
          <a:custGeom>
            <a:avLst/>
            <a:gdLst/>
            <a:ahLst/>
            <a:rect l="l" t="t" r="r" b="b"/>
            <a:pathLst>
              <a:path w="1291" h="373">
                <a:moveTo>
                  <a:pt x="6623" y="8359"/>
                </a:moveTo>
                <a:lnTo>
                  <a:pt x="6623" y="8359"/>
                </a:lnTo>
              </a:path>
              <a:path w="1291" h="373">
                <a:moveTo>
                  <a:pt x="6648" y="8310"/>
                </a:moveTo>
                <a:cubicBezTo>
                  <a:pt x="6648" y="8409"/>
                  <a:pt x="6648" y="8508"/>
                  <a:pt x="6648" y="8607"/>
                </a:cubicBezTo>
              </a:path>
              <a:path w="1291" h="373">
                <a:moveTo>
                  <a:pt x="6449" y="8533"/>
                </a:moveTo>
                <a:cubicBezTo>
                  <a:pt x="6466" y="8481"/>
                  <a:pt x="6592" y="8508"/>
                  <a:pt x="6648" y="8508"/>
                </a:cubicBezTo>
                <a:cubicBezTo>
                  <a:pt x="6722" y="8508"/>
                  <a:pt x="6797" y="8508"/>
                  <a:pt x="6871" y="8508"/>
                </a:cubicBezTo>
              </a:path>
              <a:path w="1291" h="373">
                <a:moveTo>
                  <a:pt x="7714" y="8310"/>
                </a:moveTo>
                <a:cubicBezTo>
                  <a:pt x="7676" y="8281"/>
                  <a:pt x="7663" y="8285"/>
                  <a:pt x="7615" y="8285"/>
                </a:cubicBezTo>
                <a:cubicBezTo>
                  <a:pt x="7541" y="8285"/>
                  <a:pt x="7466" y="8285"/>
                  <a:pt x="7392" y="8285"/>
                </a:cubicBezTo>
                <a:cubicBezTo>
                  <a:pt x="7392" y="8359"/>
                  <a:pt x="7392" y="8434"/>
                  <a:pt x="7392" y="8508"/>
                </a:cubicBezTo>
                <a:cubicBezTo>
                  <a:pt x="7441" y="8496"/>
                  <a:pt x="7461" y="8447"/>
                  <a:pt x="7516" y="8434"/>
                </a:cubicBezTo>
                <a:cubicBezTo>
                  <a:pt x="7575" y="8420"/>
                  <a:pt x="7556" y="8409"/>
                  <a:pt x="7615" y="8409"/>
                </a:cubicBezTo>
                <a:cubicBezTo>
                  <a:pt x="7658" y="8409"/>
                  <a:pt x="7712" y="8392"/>
                  <a:pt x="7739" y="8434"/>
                </a:cubicBezTo>
                <a:cubicBezTo>
                  <a:pt x="7768" y="8479"/>
                  <a:pt x="7723" y="8569"/>
                  <a:pt x="7714" y="8582"/>
                </a:cubicBezTo>
                <a:cubicBezTo>
                  <a:pt x="7682" y="8625"/>
                  <a:pt x="7672" y="8651"/>
                  <a:pt x="7615" y="8657"/>
                </a:cubicBezTo>
                <a:cubicBezTo>
                  <a:pt x="7510" y="8669"/>
                  <a:pt x="7398" y="8657"/>
                  <a:pt x="729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5840" y="3295800"/>
            <a:ext cx="71280" cy="1062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7367" y="9302"/>
                </a:moveTo>
                <a:cubicBezTo>
                  <a:pt x="7324" y="9344"/>
                  <a:pt x="7339" y="9360"/>
                  <a:pt x="7317" y="9401"/>
                </a:cubicBezTo>
                <a:cubicBezTo>
                  <a:pt x="7295" y="9424"/>
                  <a:pt x="7287" y="9429"/>
                  <a:pt x="7293" y="9451"/>
                </a:cubicBezTo>
                <a:cubicBezTo>
                  <a:pt x="7348" y="9451"/>
                  <a:pt x="7400" y="9463"/>
                  <a:pt x="7441" y="9426"/>
                </a:cubicBezTo>
                <a:cubicBezTo>
                  <a:pt x="7480" y="9391"/>
                  <a:pt x="7491" y="9378"/>
                  <a:pt x="7491" y="9327"/>
                </a:cubicBezTo>
                <a:cubicBezTo>
                  <a:pt x="7491" y="9279"/>
                  <a:pt x="7511" y="9159"/>
                  <a:pt x="7466" y="9153"/>
                </a:cubicBezTo>
                <a:cubicBezTo>
                  <a:pt x="7441" y="9153"/>
                  <a:pt x="7433" y="9153"/>
                  <a:pt x="7417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9000" y="3044880"/>
            <a:ext cx="339840" cy="187200"/>
          </a:xfrm>
          <a:custGeom>
            <a:avLst/>
            <a:gdLst/>
            <a:ahLst/>
            <a:rect l="l" t="t" r="r" b="b"/>
            <a:pathLst>
              <a:path w="944" h="522">
                <a:moveTo>
                  <a:pt x="3200" y="8558"/>
                </a:moveTo>
                <a:cubicBezTo>
                  <a:pt x="3192" y="8558"/>
                  <a:pt x="3183" y="8558"/>
                  <a:pt x="3175" y="8558"/>
                </a:cubicBezTo>
                <a:cubicBezTo>
                  <a:pt x="3162" y="8595"/>
                  <a:pt x="3140" y="8595"/>
                  <a:pt x="3125" y="8657"/>
                </a:cubicBezTo>
                <a:cubicBezTo>
                  <a:pt x="3115" y="8696"/>
                  <a:pt x="3101" y="8677"/>
                  <a:pt x="3101" y="8731"/>
                </a:cubicBezTo>
              </a:path>
              <a:path w="944" h="522">
                <a:moveTo>
                  <a:pt x="3026" y="8657"/>
                </a:moveTo>
                <a:cubicBezTo>
                  <a:pt x="3167" y="8657"/>
                  <a:pt x="3307" y="8657"/>
                  <a:pt x="3448" y="8657"/>
                </a:cubicBezTo>
              </a:path>
              <a:path w="944" h="522">
                <a:moveTo>
                  <a:pt x="3944" y="8483"/>
                </a:moveTo>
                <a:cubicBezTo>
                  <a:pt x="3906" y="8454"/>
                  <a:pt x="3893" y="8458"/>
                  <a:pt x="3845" y="8458"/>
                </a:cubicBezTo>
                <a:cubicBezTo>
                  <a:pt x="3812" y="8458"/>
                  <a:pt x="3779" y="8458"/>
                  <a:pt x="3746" y="8458"/>
                </a:cubicBezTo>
                <a:cubicBezTo>
                  <a:pt x="3746" y="8549"/>
                  <a:pt x="3746" y="8640"/>
                  <a:pt x="3746" y="8731"/>
                </a:cubicBezTo>
                <a:cubicBezTo>
                  <a:pt x="3809" y="8731"/>
                  <a:pt x="3843" y="8723"/>
                  <a:pt x="3894" y="8706"/>
                </a:cubicBezTo>
                <a:cubicBezTo>
                  <a:pt x="3913" y="8700"/>
                  <a:pt x="3949" y="8706"/>
                  <a:pt x="3969" y="8706"/>
                </a:cubicBezTo>
                <a:cubicBezTo>
                  <a:pt x="3969" y="8780"/>
                  <a:pt x="4007" y="8957"/>
                  <a:pt x="3919" y="8979"/>
                </a:cubicBezTo>
                <a:cubicBezTo>
                  <a:pt x="3855" y="8995"/>
                  <a:pt x="3764" y="8979"/>
                  <a:pt x="3696" y="8979"/>
                </a:cubicBezTo>
                <a:cubicBezTo>
                  <a:pt x="3696" y="8946"/>
                  <a:pt x="3696" y="8913"/>
                  <a:pt x="369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00080" y="3232080"/>
            <a:ext cx="2894040" cy="1955880"/>
          </a:xfrm>
          <a:custGeom>
            <a:avLst/>
            <a:gdLst/>
            <a:ahLst/>
            <a:rect l="l" t="t" r="r" b="b"/>
            <a:pathLst>
              <a:path w="8038" h="5434">
                <a:moveTo>
                  <a:pt x="2778" y="9203"/>
                </a:moveTo>
                <a:cubicBezTo>
                  <a:pt x="2778" y="9178"/>
                  <a:pt x="2778" y="9153"/>
                  <a:pt x="2778" y="9128"/>
                </a:cubicBezTo>
                <a:cubicBezTo>
                  <a:pt x="2891" y="9123"/>
                  <a:pt x="2986" y="9105"/>
                  <a:pt x="3101" y="9103"/>
                </a:cubicBezTo>
                <a:cubicBezTo>
                  <a:pt x="3432" y="9096"/>
                  <a:pt x="3770" y="9083"/>
                  <a:pt x="4093" y="9153"/>
                </a:cubicBezTo>
                <a:cubicBezTo>
                  <a:pt x="4205" y="9177"/>
                  <a:pt x="4322" y="9186"/>
                  <a:pt x="4440" y="9203"/>
                </a:cubicBezTo>
                <a:cubicBezTo>
                  <a:pt x="4557" y="9220"/>
                  <a:pt x="4674" y="9251"/>
                  <a:pt x="4787" y="9277"/>
                </a:cubicBezTo>
                <a:cubicBezTo>
                  <a:pt x="4875" y="9297"/>
                  <a:pt x="4929" y="9288"/>
                  <a:pt x="5011" y="9277"/>
                </a:cubicBezTo>
                <a:cubicBezTo>
                  <a:pt x="5179" y="9255"/>
                  <a:pt x="5364" y="9215"/>
                  <a:pt x="5531" y="9203"/>
                </a:cubicBezTo>
                <a:cubicBezTo>
                  <a:pt x="5786" y="9185"/>
                  <a:pt x="6044" y="9178"/>
                  <a:pt x="6300" y="9178"/>
                </a:cubicBezTo>
                <a:cubicBezTo>
                  <a:pt x="6534" y="9178"/>
                  <a:pt x="6765" y="9168"/>
                  <a:pt x="6995" y="9203"/>
                </a:cubicBezTo>
                <a:cubicBezTo>
                  <a:pt x="7100" y="9219"/>
                  <a:pt x="7207" y="9241"/>
                  <a:pt x="7317" y="9227"/>
                </a:cubicBezTo>
                <a:cubicBezTo>
                  <a:pt x="7393" y="9217"/>
                  <a:pt x="7414" y="9201"/>
                  <a:pt x="7491" y="9178"/>
                </a:cubicBezTo>
                <a:cubicBezTo>
                  <a:pt x="7737" y="9105"/>
                  <a:pt x="7981" y="9064"/>
                  <a:pt x="8235" y="9029"/>
                </a:cubicBezTo>
                <a:cubicBezTo>
                  <a:pt x="8367" y="9011"/>
                  <a:pt x="8477" y="8985"/>
                  <a:pt x="8607" y="8979"/>
                </a:cubicBezTo>
                <a:cubicBezTo>
                  <a:pt x="8706" y="8975"/>
                  <a:pt x="8806" y="8979"/>
                  <a:pt x="8905" y="8979"/>
                </a:cubicBezTo>
              </a:path>
              <a:path w="8038" h="5434">
                <a:moveTo>
                  <a:pt x="2977" y="14412"/>
                </a:moveTo>
                <a:cubicBezTo>
                  <a:pt x="3043" y="14373"/>
                  <a:pt x="3088" y="14340"/>
                  <a:pt x="3200" y="14312"/>
                </a:cubicBezTo>
                <a:cubicBezTo>
                  <a:pt x="3314" y="14284"/>
                  <a:pt x="3435" y="14291"/>
                  <a:pt x="3547" y="14263"/>
                </a:cubicBezTo>
                <a:cubicBezTo>
                  <a:pt x="3649" y="14237"/>
                  <a:pt x="3743" y="14209"/>
                  <a:pt x="3845" y="14188"/>
                </a:cubicBezTo>
                <a:cubicBezTo>
                  <a:pt x="3912" y="14174"/>
                  <a:pt x="3974" y="14168"/>
                  <a:pt x="4043" y="14163"/>
                </a:cubicBezTo>
                <a:cubicBezTo>
                  <a:pt x="4930" y="14099"/>
                  <a:pt x="5816" y="14220"/>
                  <a:pt x="6697" y="14089"/>
                </a:cubicBezTo>
                <a:cubicBezTo>
                  <a:pt x="6871" y="14063"/>
                  <a:pt x="7043" y="14042"/>
                  <a:pt x="7218" y="14039"/>
                </a:cubicBezTo>
                <a:cubicBezTo>
                  <a:pt x="7726" y="14030"/>
                  <a:pt x="8217" y="14055"/>
                  <a:pt x="8706" y="13965"/>
                </a:cubicBezTo>
                <a:cubicBezTo>
                  <a:pt x="8906" y="13928"/>
                  <a:pt x="9125" y="13924"/>
                  <a:pt x="9327" y="13915"/>
                </a:cubicBezTo>
                <a:cubicBezTo>
                  <a:pt x="9821" y="13893"/>
                  <a:pt x="10320" y="13915"/>
                  <a:pt x="10815" y="13915"/>
                </a:cubicBezTo>
              </a:path>
              <a:path w="8038" h="5434">
                <a:moveTo>
                  <a:pt x="8657" y="11038"/>
                </a:moveTo>
                <a:cubicBezTo>
                  <a:pt x="8657" y="11228"/>
                  <a:pt x="8657" y="11419"/>
                  <a:pt x="865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8720" y="3348000"/>
            <a:ext cx="1440" cy="339840"/>
          </a:xfrm>
          <a:custGeom>
            <a:avLst/>
            <a:gdLst/>
            <a:ahLst/>
            <a:rect l="l" t="t" r="r" b="b"/>
            <a:pathLst>
              <a:path w="1" h="943">
                <a:moveTo>
                  <a:pt x="3051" y="9302"/>
                </a:moveTo>
                <a:cubicBezTo>
                  <a:pt x="3051" y="9616"/>
                  <a:pt x="3051" y="9930"/>
                  <a:pt x="3051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1280" y="3357720"/>
            <a:ext cx="133560" cy="250560"/>
          </a:xfrm>
          <a:custGeom>
            <a:avLst/>
            <a:gdLst/>
            <a:ahLst/>
            <a:rect l="l" t="t" r="r" b="b"/>
            <a:pathLst>
              <a:path w="373" h="695">
                <a:moveTo>
                  <a:pt x="3746" y="9327"/>
                </a:moveTo>
                <a:cubicBezTo>
                  <a:pt x="3814" y="9350"/>
                  <a:pt x="3732" y="9351"/>
                  <a:pt x="3696" y="9351"/>
                </a:cubicBezTo>
                <a:cubicBezTo>
                  <a:pt x="3624" y="9351"/>
                  <a:pt x="3506" y="9332"/>
                  <a:pt x="3473" y="9376"/>
                </a:cubicBezTo>
                <a:cubicBezTo>
                  <a:pt x="3445" y="9414"/>
                  <a:pt x="3448" y="9427"/>
                  <a:pt x="3448" y="9475"/>
                </a:cubicBezTo>
                <a:cubicBezTo>
                  <a:pt x="3448" y="9512"/>
                  <a:pt x="3436" y="9552"/>
                  <a:pt x="3473" y="9575"/>
                </a:cubicBezTo>
                <a:cubicBezTo>
                  <a:pt x="3555" y="9624"/>
                  <a:pt x="3619" y="9672"/>
                  <a:pt x="3696" y="9723"/>
                </a:cubicBezTo>
                <a:cubicBezTo>
                  <a:pt x="3722" y="9740"/>
                  <a:pt x="3789" y="9806"/>
                  <a:pt x="3795" y="9823"/>
                </a:cubicBezTo>
                <a:cubicBezTo>
                  <a:pt x="3813" y="9876"/>
                  <a:pt x="3795" y="9952"/>
                  <a:pt x="3770" y="9971"/>
                </a:cubicBezTo>
                <a:cubicBezTo>
                  <a:pt x="3726" y="10005"/>
                  <a:pt x="3702" y="10021"/>
                  <a:pt x="3646" y="10021"/>
                </a:cubicBezTo>
                <a:cubicBezTo>
                  <a:pt x="3621" y="10021"/>
                  <a:pt x="3613" y="10021"/>
                  <a:pt x="3597" y="10021"/>
                </a:cubicBezTo>
                <a:cubicBezTo>
                  <a:pt x="3597" y="9921"/>
                  <a:pt x="3556" y="9717"/>
                  <a:pt x="3646" y="9649"/>
                </a:cubicBezTo>
                <a:cubicBezTo>
                  <a:pt x="3691" y="9615"/>
                  <a:pt x="3729" y="9591"/>
                  <a:pt x="3770" y="9550"/>
                </a:cubicBezTo>
                <a:cubicBezTo>
                  <a:pt x="3808" y="9512"/>
                  <a:pt x="3820" y="9504"/>
                  <a:pt x="3820" y="9451"/>
                </a:cubicBezTo>
                <a:cubicBezTo>
                  <a:pt x="3820" y="9408"/>
                  <a:pt x="3838" y="9332"/>
                  <a:pt x="3795" y="9327"/>
                </a:cubicBezTo>
                <a:cubicBezTo>
                  <a:pt x="3787" y="9327"/>
                  <a:pt x="3778" y="9327"/>
                  <a:pt x="3770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62040" y="3438360"/>
            <a:ext cx="152640" cy="88920"/>
          </a:xfrm>
          <a:custGeom>
            <a:avLst/>
            <a:gdLst/>
            <a:ahLst/>
            <a:rect l="l" t="t" r="r" b="b"/>
            <a:pathLst>
              <a:path w="422" h="249">
                <a:moveTo>
                  <a:pt x="4341" y="9599"/>
                </a:moveTo>
                <a:cubicBezTo>
                  <a:pt x="4392" y="9599"/>
                  <a:pt x="4424" y="9587"/>
                  <a:pt x="4465" y="9575"/>
                </a:cubicBezTo>
                <a:cubicBezTo>
                  <a:pt x="4502" y="9564"/>
                  <a:pt x="4555" y="9552"/>
                  <a:pt x="4589" y="9550"/>
                </a:cubicBezTo>
                <a:cubicBezTo>
                  <a:pt x="4621" y="9548"/>
                  <a:pt x="4655" y="9550"/>
                  <a:pt x="4688" y="9550"/>
                </a:cubicBezTo>
              </a:path>
              <a:path w="422" h="249">
                <a:moveTo>
                  <a:pt x="4440" y="9798"/>
                </a:moveTo>
                <a:cubicBezTo>
                  <a:pt x="4547" y="9798"/>
                  <a:pt x="4655" y="9798"/>
                  <a:pt x="476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3160" y="3446640"/>
            <a:ext cx="152640" cy="13464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5482" y="9624"/>
                </a:moveTo>
                <a:cubicBezTo>
                  <a:pt x="5482" y="9574"/>
                  <a:pt x="5482" y="9673"/>
                  <a:pt x="5482" y="9723"/>
                </a:cubicBezTo>
                <a:cubicBezTo>
                  <a:pt x="5482" y="9798"/>
                  <a:pt x="5482" y="9872"/>
                  <a:pt x="5482" y="9947"/>
                </a:cubicBezTo>
                <a:cubicBezTo>
                  <a:pt x="5482" y="9868"/>
                  <a:pt x="5476" y="9791"/>
                  <a:pt x="5507" y="9748"/>
                </a:cubicBezTo>
                <a:cubicBezTo>
                  <a:pt x="5535" y="9709"/>
                  <a:pt x="5582" y="9646"/>
                  <a:pt x="5631" y="9624"/>
                </a:cubicBezTo>
                <a:cubicBezTo>
                  <a:pt x="5674" y="9604"/>
                  <a:pt x="5664" y="9595"/>
                  <a:pt x="5705" y="9575"/>
                </a:cubicBezTo>
                <a:cubicBezTo>
                  <a:pt x="5752" y="9552"/>
                  <a:pt x="5818" y="9588"/>
                  <a:pt x="5854" y="9599"/>
                </a:cubicBezTo>
                <a:cubicBezTo>
                  <a:pt x="5880" y="9607"/>
                  <a:pt x="5901" y="9648"/>
                  <a:pt x="5904" y="9674"/>
                </a:cubicBezTo>
                <a:cubicBezTo>
                  <a:pt x="5915" y="9762"/>
                  <a:pt x="5904" y="9858"/>
                  <a:pt x="5904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52840" y="481320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7565" y="13370"/>
                </a:moveTo>
                <a:cubicBezTo>
                  <a:pt x="7516" y="13387"/>
                  <a:pt x="7541" y="13486"/>
                  <a:pt x="7541" y="13543"/>
                </a:cubicBezTo>
                <a:cubicBezTo>
                  <a:pt x="7541" y="13667"/>
                  <a:pt x="7541" y="13791"/>
                  <a:pt x="7541" y="13915"/>
                </a:cubicBezTo>
              </a:path>
              <a:path w="323" h="546">
                <a:moveTo>
                  <a:pt x="7367" y="13667"/>
                </a:moveTo>
                <a:cubicBezTo>
                  <a:pt x="7384" y="13618"/>
                  <a:pt x="7485" y="13643"/>
                  <a:pt x="7541" y="13643"/>
                </a:cubicBezTo>
                <a:cubicBezTo>
                  <a:pt x="7590" y="13643"/>
                  <a:pt x="7640" y="13643"/>
                  <a:pt x="7689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2160" y="4795920"/>
            <a:ext cx="1256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8582" y="13395"/>
                </a:moveTo>
                <a:cubicBezTo>
                  <a:pt x="8582" y="13364"/>
                  <a:pt x="8590" y="13328"/>
                  <a:pt x="8607" y="13320"/>
                </a:cubicBezTo>
                <a:cubicBezTo>
                  <a:pt x="8644" y="13302"/>
                  <a:pt x="8739" y="13320"/>
                  <a:pt x="8781" y="13320"/>
                </a:cubicBezTo>
                <a:cubicBezTo>
                  <a:pt x="8781" y="13359"/>
                  <a:pt x="8793" y="13394"/>
                  <a:pt x="8756" y="13419"/>
                </a:cubicBezTo>
                <a:cubicBezTo>
                  <a:pt x="8712" y="13449"/>
                  <a:pt x="8632" y="13463"/>
                  <a:pt x="8607" y="13519"/>
                </a:cubicBezTo>
                <a:cubicBezTo>
                  <a:pt x="8607" y="13543"/>
                  <a:pt x="8607" y="13551"/>
                  <a:pt x="8582" y="13543"/>
                </a:cubicBezTo>
                <a:cubicBezTo>
                  <a:pt x="8673" y="13543"/>
                  <a:pt x="8764" y="13543"/>
                  <a:pt x="8855" y="13543"/>
                </a:cubicBezTo>
                <a:cubicBezTo>
                  <a:pt x="8855" y="13642"/>
                  <a:pt x="8855" y="13742"/>
                  <a:pt x="8855" y="13841"/>
                </a:cubicBezTo>
                <a:cubicBezTo>
                  <a:pt x="8739" y="13841"/>
                  <a:pt x="8624" y="13841"/>
                  <a:pt x="8508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492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153" y="13692"/>
                </a:moveTo>
                <a:lnTo>
                  <a:pt x="9153" y="136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1360" y="4759200"/>
            <a:ext cx="1800" cy="241560"/>
          </a:xfrm>
          <a:custGeom>
            <a:avLst/>
            <a:gdLst/>
            <a:ahLst/>
            <a:rect l="l" t="t" r="r" b="b"/>
            <a:pathLst>
              <a:path w="1" h="671">
                <a:moveTo>
                  <a:pt x="9475" y="13221"/>
                </a:moveTo>
                <a:cubicBezTo>
                  <a:pt x="9475" y="13444"/>
                  <a:pt x="9475" y="13668"/>
                  <a:pt x="947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8760" y="482292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4638" y="13395"/>
                </a:moveTo>
                <a:cubicBezTo>
                  <a:pt x="4569" y="13418"/>
                  <a:pt x="4591" y="13598"/>
                  <a:pt x="4589" y="13667"/>
                </a:cubicBezTo>
                <a:cubicBezTo>
                  <a:pt x="4587" y="13734"/>
                  <a:pt x="4564" y="13777"/>
                  <a:pt x="4564" y="13841"/>
                </a:cubicBezTo>
                <a:cubicBezTo>
                  <a:pt x="4564" y="13866"/>
                  <a:pt x="4564" y="13874"/>
                  <a:pt x="4564" y="13891"/>
                </a:cubicBezTo>
              </a:path>
              <a:path w="423" h="497">
                <a:moveTo>
                  <a:pt x="4440" y="13667"/>
                </a:moveTo>
                <a:cubicBezTo>
                  <a:pt x="4454" y="13625"/>
                  <a:pt x="4510" y="13643"/>
                  <a:pt x="4564" y="13643"/>
                </a:cubicBezTo>
                <a:cubicBezTo>
                  <a:pt x="4663" y="13643"/>
                  <a:pt x="4763" y="13643"/>
                  <a:pt x="4862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28880" y="4786200"/>
            <a:ext cx="455400" cy="706680"/>
          </a:xfrm>
          <a:custGeom>
            <a:avLst/>
            <a:gdLst/>
            <a:ahLst/>
            <a:rect l="l" t="t" r="r" b="b"/>
            <a:pathLst>
              <a:path w="1266" h="1961">
                <a:moveTo>
                  <a:pt x="5358" y="13370"/>
                </a:moveTo>
                <a:cubicBezTo>
                  <a:pt x="5366" y="13337"/>
                  <a:pt x="5396" y="13303"/>
                  <a:pt x="5432" y="13295"/>
                </a:cubicBezTo>
                <a:cubicBezTo>
                  <a:pt x="5530" y="13274"/>
                  <a:pt x="5654" y="13295"/>
                  <a:pt x="5755" y="13295"/>
                </a:cubicBezTo>
                <a:cubicBezTo>
                  <a:pt x="5755" y="13340"/>
                  <a:pt x="5770" y="13388"/>
                  <a:pt x="5730" y="13419"/>
                </a:cubicBezTo>
                <a:cubicBezTo>
                  <a:pt x="5689" y="13450"/>
                  <a:pt x="5653" y="13444"/>
                  <a:pt x="5606" y="13444"/>
                </a:cubicBezTo>
                <a:cubicBezTo>
                  <a:pt x="5565" y="13444"/>
                  <a:pt x="5585" y="13488"/>
                  <a:pt x="5531" y="13494"/>
                </a:cubicBezTo>
                <a:cubicBezTo>
                  <a:pt x="5479" y="13500"/>
                  <a:pt x="5476" y="13494"/>
                  <a:pt x="5531" y="13494"/>
                </a:cubicBezTo>
                <a:cubicBezTo>
                  <a:pt x="5606" y="13494"/>
                  <a:pt x="5680" y="13494"/>
                  <a:pt x="5755" y="13494"/>
                </a:cubicBezTo>
                <a:cubicBezTo>
                  <a:pt x="5755" y="13558"/>
                  <a:pt x="5786" y="13729"/>
                  <a:pt x="5730" y="13767"/>
                </a:cubicBezTo>
                <a:cubicBezTo>
                  <a:pt x="5685" y="13797"/>
                  <a:pt x="5643" y="13808"/>
                  <a:pt x="5606" y="13841"/>
                </a:cubicBezTo>
                <a:cubicBezTo>
                  <a:pt x="5571" y="13872"/>
                  <a:pt x="5518" y="13897"/>
                  <a:pt x="5482" y="13915"/>
                </a:cubicBezTo>
                <a:cubicBezTo>
                  <a:pt x="5446" y="13932"/>
                  <a:pt x="5362" y="13924"/>
                  <a:pt x="5358" y="13891"/>
                </a:cubicBezTo>
                <a:cubicBezTo>
                  <a:pt x="5358" y="13883"/>
                  <a:pt x="5358" y="13874"/>
                  <a:pt x="5358" y="13866"/>
                </a:cubicBezTo>
              </a:path>
              <a:path w="1266" h="1961">
                <a:moveTo>
                  <a:pt x="6102" y="13841"/>
                </a:moveTo>
                <a:cubicBezTo>
                  <a:pt x="6094" y="13841"/>
                  <a:pt x="6085" y="13841"/>
                  <a:pt x="6077" y="13841"/>
                </a:cubicBezTo>
              </a:path>
              <a:path w="1266" h="1961">
                <a:moveTo>
                  <a:pt x="6325" y="13444"/>
                </a:moveTo>
                <a:cubicBezTo>
                  <a:pt x="6325" y="13568"/>
                  <a:pt x="6325" y="13692"/>
                  <a:pt x="6325" y="13816"/>
                </a:cubicBezTo>
              </a:path>
              <a:path w="1266" h="1961">
                <a:moveTo>
                  <a:pt x="6325" y="14288"/>
                </a:moveTo>
                <a:cubicBezTo>
                  <a:pt x="6316" y="14359"/>
                  <a:pt x="6267" y="14401"/>
                  <a:pt x="6251" y="14461"/>
                </a:cubicBezTo>
                <a:cubicBezTo>
                  <a:pt x="6234" y="14524"/>
                  <a:pt x="6240" y="14519"/>
                  <a:pt x="6226" y="14560"/>
                </a:cubicBezTo>
                <a:cubicBezTo>
                  <a:pt x="6269" y="14560"/>
                  <a:pt x="6314" y="14578"/>
                  <a:pt x="6325" y="14536"/>
                </a:cubicBezTo>
                <a:cubicBezTo>
                  <a:pt x="6335" y="14497"/>
                  <a:pt x="6350" y="14481"/>
                  <a:pt x="6350" y="14436"/>
                </a:cubicBezTo>
                <a:cubicBezTo>
                  <a:pt x="6350" y="14395"/>
                  <a:pt x="6350" y="14353"/>
                  <a:pt x="6350" y="14312"/>
                </a:cubicBezTo>
              </a:path>
              <a:path w="1266" h="1961">
                <a:moveTo>
                  <a:pt x="5680" y="14858"/>
                </a:moveTo>
                <a:cubicBezTo>
                  <a:pt x="5680" y="14990"/>
                  <a:pt x="5680" y="15123"/>
                  <a:pt x="5680" y="15255"/>
                </a:cubicBezTo>
                <a:cubicBezTo>
                  <a:pt x="5680" y="15106"/>
                  <a:pt x="5630" y="14921"/>
                  <a:pt x="5755" y="14833"/>
                </a:cubicBezTo>
                <a:cubicBezTo>
                  <a:pt x="5822" y="14786"/>
                  <a:pt x="5867" y="14726"/>
                  <a:pt x="5928" y="14684"/>
                </a:cubicBezTo>
                <a:cubicBezTo>
                  <a:pt x="5973" y="14653"/>
                  <a:pt x="5994" y="14660"/>
                  <a:pt x="6052" y="14660"/>
                </a:cubicBezTo>
                <a:cubicBezTo>
                  <a:pt x="6084" y="14660"/>
                  <a:pt x="6138" y="14703"/>
                  <a:pt x="6152" y="14734"/>
                </a:cubicBezTo>
                <a:cubicBezTo>
                  <a:pt x="6173" y="14781"/>
                  <a:pt x="6176" y="14830"/>
                  <a:pt x="6176" y="14883"/>
                </a:cubicBezTo>
                <a:cubicBezTo>
                  <a:pt x="6176" y="14941"/>
                  <a:pt x="6176" y="14998"/>
                  <a:pt x="6176" y="15056"/>
                </a:cubicBezTo>
                <a:cubicBezTo>
                  <a:pt x="6176" y="15118"/>
                  <a:pt x="6176" y="14956"/>
                  <a:pt x="6176" y="14932"/>
                </a:cubicBezTo>
                <a:cubicBezTo>
                  <a:pt x="6176" y="14882"/>
                  <a:pt x="6187" y="14874"/>
                  <a:pt x="6201" y="14833"/>
                </a:cubicBezTo>
                <a:cubicBezTo>
                  <a:pt x="6214" y="14795"/>
                  <a:pt x="6258" y="14811"/>
                  <a:pt x="6276" y="14784"/>
                </a:cubicBezTo>
                <a:cubicBezTo>
                  <a:pt x="6278" y="14782"/>
                  <a:pt x="6325" y="14709"/>
                  <a:pt x="6325" y="14709"/>
                </a:cubicBezTo>
                <a:cubicBezTo>
                  <a:pt x="6363" y="14695"/>
                  <a:pt x="6406" y="14684"/>
                  <a:pt x="6449" y="14684"/>
                </a:cubicBezTo>
                <a:cubicBezTo>
                  <a:pt x="6481" y="14684"/>
                  <a:pt x="6560" y="14668"/>
                  <a:pt x="6573" y="14709"/>
                </a:cubicBezTo>
                <a:cubicBezTo>
                  <a:pt x="6598" y="14791"/>
                  <a:pt x="6623" y="14868"/>
                  <a:pt x="6623" y="14957"/>
                </a:cubicBezTo>
                <a:cubicBezTo>
                  <a:pt x="6623" y="15040"/>
                  <a:pt x="6623" y="15122"/>
                  <a:pt x="6623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4840" y="5241960"/>
            <a:ext cx="169920" cy="125280"/>
          </a:xfrm>
          <a:custGeom>
            <a:avLst/>
            <a:gdLst/>
            <a:ahLst/>
            <a:rect l="l" t="t" r="r" b="b"/>
            <a:pathLst>
              <a:path w="473" h="349">
                <a:moveTo>
                  <a:pt x="7069" y="14560"/>
                </a:moveTo>
                <a:cubicBezTo>
                  <a:pt x="7177" y="14560"/>
                  <a:pt x="7284" y="14560"/>
                  <a:pt x="7392" y="14560"/>
                </a:cubicBezTo>
              </a:path>
              <a:path w="473" h="349">
                <a:moveTo>
                  <a:pt x="7193" y="14808"/>
                </a:moveTo>
                <a:cubicBezTo>
                  <a:pt x="7251" y="14820"/>
                  <a:pt x="7311" y="14843"/>
                  <a:pt x="7367" y="14858"/>
                </a:cubicBezTo>
                <a:cubicBezTo>
                  <a:pt x="7432" y="14875"/>
                  <a:pt x="7475" y="14908"/>
                  <a:pt x="754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1320" y="5153040"/>
            <a:ext cx="1800" cy="177840"/>
          </a:xfrm>
          <a:custGeom>
            <a:avLst/>
            <a:gdLst/>
            <a:ahLst/>
            <a:rect l="l" t="t" r="r" b="b"/>
            <a:pathLst>
              <a:path w="1" h="497">
                <a:moveTo>
                  <a:pt x="8086" y="14312"/>
                </a:moveTo>
                <a:cubicBezTo>
                  <a:pt x="8086" y="14477"/>
                  <a:pt x="8086" y="14643"/>
                  <a:pt x="808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4786200"/>
            <a:ext cx="662040" cy="554040"/>
          </a:xfrm>
          <a:custGeom>
            <a:avLst/>
            <a:gdLst/>
            <a:ahLst/>
            <a:rect l="l" t="t" r="r" b="b"/>
            <a:pathLst>
              <a:path w="1837" h="1539">
                <a:moveTo>
                  <a:pt x="10046" y="13295"/>
                </a:moveTo>
                <a:cubicBezTo>
                  <a:pt x="10046" y="13356"/>
                  <a:pt x="10018" y="13346"/>
                  <a:pt x="9996" y="13395"/>
                </a:cubicBezTo>
                <a:cubicBezTo>
                  <a:pt x="9983" y="13424"/>
                  <a:pt x="9957" y="13464"/>
                  <a:pt x="9947" y="13494"/>
                </a:cubicBezTo>
                <a:cubicBezTo>
                  <a:pt x="9926" y="13561"/>
                  <a:pt x="9947" y="13671"/>
                  <a:pt x="9947" y="13742"/>
                </a:cubicBezTo>
                <a:cubicBezTo>
                  <a:pt x="10034" y="13742"/>
                  <a:pt x="10202" y="13765"/>
                  <a:pt x="10244" y="13717"/>
                </a:cubicBezTo>
                <a:cubicBezTo>
                  <a:pt x="10268" y="13689"/>
                  <a:pt x="10290" y="13655"/>
                  <a:pt x="10294" y="13618"/>
                </a:cubicBezTo>
                <a:cubicBezTo>
                  <a:pt x="10298" y="13578"/>
                  <a:pt x="10294" y="13534"/>
                  <a:pt x="10294" y="13494"/>
                </a:cubicBezTo>
                <a:cubicBezTo>
                  <a:pt x="10238" y="13494"/>
                  <a:pt x="10260" y="13474"/>
                  <a:pt x="10220" y="13469"/>
                </a:cubicBezTo>
                <a:cubicBezTo>
                  <a:pt x="10159" y="13461"/>
                  <a:pt x="10013" y="13496"/>
                  <a:pt x="9996" y="13444"/>
                </a:cubicBezTo>
              </a:path>
              <a:path w="1837" h="1539">
                <a:moveTo>
                  <a:pt x="10269" y="14337"/>
                </a:moveTo>
                <a:cubicBezTo>
                  <a:pt x="10179" y="14337"/>
                  <a:pt x="10097" y="14337"/>
                  <a:pt x="10046" y="14362"/>
                </a:cubicBezTo>
                <a:cubicBezTo>
                  <a:pt x="10011" y="14379"/>
                  <a:pt x="10021" y="14388"/>
                  <a:pt x="10021" y="14436"/>
                </a:cubicBezTo>
                <a:cubicBezTo>
                  <a:pt x="10021" y="14461"/>
                  <a:pt x="10021" y="14486"/>
                  <a:pt x="10021" y="14511"/>
                </a:cubicBezTo>
                <a:cubicBezTo>
                  <a:pt x="10077" y="14511"/>
                  <a:pt x="10095" y="14499"/>
                  <a:pt x="10120" y="14486"/>
                </a:cubicBezTo>
                <a:cubicBezTo>
                  <a:pt x="10153" y="14469"/>
                  <a:pt x="10249" y="14482"/>
                  <a:pt x="10269" y="14511"/>
                </a:cubicBezTo>
                <a:cubicBezTo>
                  <a:pt x="10290" y="14541"/>
                  <a:pt x="10338" y="14573"/>
                  <a:pt x="10344" y="14585"/>
                </a:cubicBezTo>
                <a:cubicBezTo>
                  <a:pt x="10361" y="14619"/>
                  <a:pt x="10339" y="14662"/>
                  <a:pt x="10319" y="14684"/>
                </a:cubicBezTo>
                <a:cubicBezTo>
                  <a:pt x="10288" y="14718"/>
                  <a:pt x="10247" y="14793"/>
                  <a:pt x="10220" y="14808"/>
                </a:cubicBezTo>
                <a:cubicBezTo>
                  <a:pt x="10168" y="14837"/>
                  <a:pt x="9961" y="14818"/>
                  <a:pt x="9922" y="14784"/>
                </a:cubicBezTo>
                <a:cubicBezTo>
                  <a:pt x="9899" y="14761"/>
                  <a:pt x="9891" y="14757"/>
                  <a:pt x="9897" y="14734"/>
                </a:cubicBezTo>
              </a:path>
              <a:path w="1837" h="1539">
                <a:moveTo>
                  <a:pt x="9500" y="14536"/>
                </a:moveTo>
                <a:cubicBezTo>
                  <a:pt x="9475" y="14536"/>
                  <a:pt x="9467" y="14536"/>
                  <a:pt x="9451" y="14536"/>
                </a:cubicBezTo>
                <a:cubicBezTo>
                  <a:pt x="9451" y="14572"/>
                  <a:pt x="9431" y="14695"/>
                  <a:pt x="9475" y="14709"/>
                </a:cubicBezTo>
                <a:cubicBezTo>
                  <a:pt x="9543" y="14730"/>
                  <a:pt x="9653" y="14709"/>
                  <a:pt x="9723" y="14709"/>
                </a:cubicBezTo>
                <a:cubicBezTo>
                  <a:pt x="9723" y="14648"/>
                  <a:pt x="9755" y="14415"/>
                  <a:pt x="9699" y="14387"/>
                </a:cubicBezTo>
                <a:cubicBezTo>
                  <a:pt x="9674" y="14375"/>
                  <a:pt x="9664" y="14345"/>
                  <a:pt x="9649" y="14337"/>
                </a:cubicBezTo>
                <a:cubicBezTo>
                  <a:pt x="9599" y="14312"/>
                  <a:pt x="9484" y="14337"/>
                  <a:pt x="9426" y="14337"/>
                </a:cubicBezTo>
                <a:cubicBezTo>
                  <a:pt x="9426" y="14387"/>
                  <a:pt x="9415" y="14396"/>
                  <a:pt x="9401" y="14436"/>
                </a:cubicBezTo>
                <a:cubicBezTo>
                  <a:pt x="9395" y="14455"/>
                  <a:pt x="9401" y="14491"/>
                  <a:pt x="9401" y="14511"/>
                </a:cubicBezTo>
              </a:path>
              <a:path w="1837" h="1539">
                <a:moveTo>
                  <a:pt x="9103" y="14784"/>
                </a:moveTo>
                <a:cubicBezTo>
                  <a:pt x="9095" y="14784"/>
                  <a:pt x="9087" y="14784"/>
                  <a:pt x="9079" y="14784"/>
                </a:cubicBezTo>
              </a:path>
              <a:path w="1837" h="1539">
                <a:moveTo>
                  <a:pt x="8731" y="14263"/>
                </a:moveTo>
                <a:cubicBezTo>
                  <a:pt x="8718" y="14225"/>
                  <a:pt x="8702" y="14238"/>
                  <a:pt x="8657" y="14238"/>
                </a:cubicBezTo>
                <a:cubicBezTo>
                  <a:pt x="8632" y="14238"/>
                  <a:pt x="8624" y="14238"/>
                  <a:pt x="8607" y="14238"/>
                </a:cubicBezTo>
                <a:cubicBezTo>
                  <a:pt x="8607" y="14303"/>
                  <a:pt x="8581" y="14494"/>
                  <a:pt x="8632" y="14511"/>
                </a:cubicBezTo>
                <a:cubicBezTo>
                  <a:pt x="8705" y="14536"/>
                  <a:pt x="8743" y="14561"/>
                  <a:pt x="8781" y="14610"/>
                </a:cubicBezTo>
                <a:cubicBezTo>
                  <a:pt x="8810" y="14647"/>
                  <a:pt x="8806" y="14661"/>
                  <a:pt x="8806" y="14709"/>
                </a:cubicBezTo>
                <a:cubicBezTo>
                  <a:pt x="8806" y="14746"/>
                  <a:pt x="8822" y="14813"/>
                  <a:pt x="8781" y="14833"/>
                </a:cubicBezTo>
                <a:cubicBezTo>
                  <a:pt x="8731" y="14858"/>
                  <a:pt x="8520" y="14845"/>
                  <a:pt x="8508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4720" y="1482840"/>
            <a:ext cx="1911240" cy="71280"/>
          </a:xfrm>
          <a:custGeom>
            <a:avLst/>
            <a:gdLst/>
            <a:ahLst/>
            <a:rect l="l" t="t" r="r" b="b"/>
            <a:pathLst>
              <a:path w="5309" h="199">
                <a:moveTo>
                  <a:pt x="2902" y="4242"/>
                </a:moveTo>
                <a:cubicBezTo>
                  <a:pt x="3103" y="4242"/>
                  <a:pt x="3298" y="4261"/>
                  <a:pt x="3497" y="4266"/>
                </a:cubicBezTo>
                <a:cubicBezTo>
                  <a:pt x="3784" y="4273"/>
                  <a:pt x="4090" y="4235"/>
                  <a:pt x="4366" y="4291"/>
                </a:cubicBezTo>
                <a:cubicBezTo>
                  <a:pt x="4436" y="4305"/>
                  <a:pt x="4489" y="4314"/>
                  <a:pt x="4564" y="4316"/>
                </a:cubicBezTo>
                <a:cubicBezTo>
                  <a:pt x="5369" y="4339"/>
                  <a:pt x="6454" y="4476"/>
                  <a:pt x="7243" y="4266"/>
                </a:cubicBezTo>
                <a:cubicBezTo>
                  <a:pt x="7422" y="4218"/>
                  <a:pt x="7608" y="4204"/>
                  <a:pt x="7789" y="4167"/>
                </a:cubicBezTo>
                <a:cubicBezTo>
                  <a:pt x="7909" y="4143"/>
                  <a:pt x="8095" y="4133"/>
                  <a:pt x="8186" y="4118"/>
                </a:cubicBezTo>
                <a:cubicBezTo>
                  <a:pt x="8194" y="4118"/>
                  <a:pt x="8202" y="4118"/>
                  <a:pt x="8210" y="41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25 = g - 1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x – 2.6 = 6.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n – 50 = 2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 8.45 = h – 3.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34 = k - 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m – 68 = 7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3200" y="269712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6871" y="7491"/>
                </a:moveTo>
                <a:cubicBezTo>
                  <a:pt x="6871" y="7598"/>
                  <a:pt x="6871" y="7706"/>
                  <a:pt x="687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98920" y="204840"/>
            <a:ext cx="1751040" cy="447480"/>
          </a:xfrm>
          <a:custGeom>
            <a:avLst/>
            <a:gdLst/>
            <a:ahLst/>
            <a:rect l="l" t="t" r="r" b="b"/>
            <a:pathLst>
              <a:path w="4863" h="1241">
                <a:moveTo>
                  <a:pt x="10021" y="1141"/>
                </a:moveTo>
                <a:cubicBezTo>
                  <a:pt x="10063" y="1141"/>
                  <a:pt x="10054" y="1141"/>
                  <a:pt x="10096" y="1141"/>
                </a:cubicBezTo>
                <a:cubicBezTo>
                  <a:pt x="10296" y="1141"/>
                  <a:pt x="10500" y="1152"/>
                  <a:pt x="10691" y="1116"/>
                </a:cubicBezTo>
                <a:cubicBezTo>
                  <a:pt x="10804" y="1095"/>
                  <a:pt x="10923" y="1076"/>
                  <a:pt x="11038" y="1067"/>
                </a:cubicBezTo>
                <a:cubicBezTo>
                  <a:pt x="11382" y="1041"/>
                  <a:pt x="11713" y="1086"/>
                  <a:pt x="12055" y="1017"/>
                </a:cubicBezTo>
                <a:cubicBezTo>
                  <a:pt x="12216" y="985"/>
                  <a:pt x="12387" y="971"/>
                  <a:pt x="12551" y="967"/>
                </a:cubicBezTo>
                <a:cubicBezTo>
                  <a:pt x="12630" y="965"/>
                  <a:pt x="12701" y="947"/>
                  <a:pt x="12774" y="943"/>
                </a:cubicBezTo>
                <a:cubicBezTo>
                  <a:pt x="12957" y="933"/>
                  <a:pt x="13169" y="913"/>
                  <a:pt x="13320" y="992"/>
                </a:cubicBezTo>
                <a:cubicBezTo>
                  <a:pt x="13397" y="1033"/>
                  <a:pt x="13440" y="1086"/>
                  <a:pt x="13519" y="1116"/>
                </a:cubicBezTo>
                <a:cubicBezTo>
                  <a:pt x="13584" y="1141"/>
                  <a:pt x="13650" y="1158"/>
                  <a:pt x="13717" y="1166"/>
                </a:cubicBezTo>
                <a:cubicBezTo>
                  <a:pt x="13906" y="1187"/>
                  <a:pt x="14115" y="1134"/>
                  <a:pt x="14288" y="1191"/>
                </a:cubicBezTo>
                <a:cubicBezTo>
                  <a:pt x="14335" y="1207"/>
                  <a:pt x="14368" y="1232"/>
                  <a:pt x="14412" y="1240"/>
                </a:cubicBezTo>
                <a:cubicBezTo>
                  <a:pt x="14489" y="1253"/>
                  <a:pt x="14644" y="1261"/>
                  <a:pt x="14684" y="1265"/>
                </a:cubicBezTo>
                <a:cubicBezTo>
                  <a:pt x="14747" y="1271"/>
                  <a:pt x="14783" y="1258"/>
                  <a:pt x="14833" y="1240"/>
                </a:cubicBezTo>
                <a:cubicBezTo>
                  <a:pt x="14833" y="1215"/>
                  <a:pt x="14833" y="1207"/>
                  <a:pt x="14858" y="1215"/>
                </a:cubicBezTo>
                <a:cubicBezTo>
                  <a:pt x="14856" y="1215"/>
                  <a:pt x="14760" y="1262"/>
                  <a:pt x="14734" y="1265"/>
                </a:cubicBezTo>
                <a:cubicBezTo>
                  <a:pt x="14583" y="1280"/>
                  <a:pt x="14426" y="1263"/>
                  <a:pt x="14288" y="1290"/>
                </a:cubicBezTo>
                <a:cubicBezTo>
                  <a:pt x="14198" y="1308"/>
                  <a:pt x="14106" y="1339"/>
                  <a:pt x="14015" y="1364"/>
                </a:cubicBezTo>
                <a:cubicBezTo>
                  <a:pt x="13936" y="1386"/>
                  <a:pt x="13872" y="1380"/>
                  <a:pt x="13791" y="1389"/>
                </a:cubicBezTo>
                <a:cubicBezTo>
                  <a:pt x="13643" y="1406"/>
                  <a:pt x="13480" y="1415"/>
                  <a:pt x="13345" y="1488"/>
                </a:cubicBezTo>
                <a:cubicBezTo>
                  <a:pt x="13248" y="1540"/>
                  <a:pt x="13133" y="1637"/>
                  <a:pt x="13022" y="1662"/>
                </a:cubicBezTo>
                <a:cubicBezTo>
                  <a:pt x="12757" y="1722"/>
                  <a:pt x="12421" y="1766"/>
                  <a:pt x="12154" y="1811"/>
                </a:cubicBezTo>
                <a:cubicBezTo>
                  <a:pt x="12001" y="1837"/>
                  <a:pt x="11807" y="1815"/>
                  <a:pt x="11658" y="1786"/>
                </a:cubicBezTo>
                <a:cubicBezTo>
                  <a:pt x="11519" y="1759"/>
                  <a:pt x="11377" y="1745"/>
                  <a:pt x="11237" y="1736"/>
                </a:cubicBezTo>
                <a:cubicBezTo>
                  <a:pt x="11092" y="1727"/>
                  <a:pt x="10958" y="1738"/>
                  <a:pt x="10815" y="1712"/>
                </a:cubicBezTo>
                <a:cubicBezTo>
                  <a:pt x="10728" y="1696"/>
                  <a:pt x="10689" y="1694"/>
                  <a:pt x="10616" y="1637"/>
                </a:cubicBezTo>
                <a:cubicBezTo>
                  <a:pt x="10583" y="1611"/>
                  <a:pt x="10578" y="1570"/>
                  <a:pt x="10542" y="1538"/>
                </a:cubicBezTo>
                <a:cubicBezTo>
                  <a:pt x="10511" y="1510"/>
                  <a:pt x="10472" y="1509"/>
                  <a:pt x="10443" y="1488"/>
                </a:cubicBezTo>
                <a:cubicBezTo>
                  <a:pt x="10411" y="1466"/>
                  <a:pt x="10324" y="1401"/>
                  <a:pt x="10294" y="1364"/>
                </a:cubicBezTo>
                <a:cubicBezTo>
                  <a:pt x="10276" y="1342"/>
                  <a:pt x="10253" y="1269"/>
                  <a:pt x="10244" y="1240"/>
                </a:cubicBezTo>
                <a:cubicBezTo>
                  <a:pt x="10244" y="1215"/>
                  <a:pt x="10244" y="1207"/>
                  <a:pt x="10244" y="1191"/>
                </a:cubicBezTo>
                <a:cubicBezTo>
                  <a:pt x="10285" y="1173"/>
                  <a:pt x="10379" y="1117"/>
                  <a:pt x="10443" y="1091"/>
                </a:cubicBezTo>
                <a:cubicBezTo>
                  <a:pt x="10605" y="1027"/>
                  <a:pt x="10764" y="942"/>
                  <a:pt x="10939" y="918"/>
                </a:cubicBezTo>
                <a:cubicBezTo>
                  <a:pt x="11367" y="859"/>
                  <a:pt x="11887" y="910"/>
                  <a:pt x="12303" y="943"/>
                </a:cubicBezTo>
                <a:cubicBezTo>
                  <a:pt x="12549" y="963"/>
                  <a:pt x="12775" y="947"/>
                  <a:pt x="12998" y="843"/>
                </a:cubicBezTo>
                <a:cubicBezTo>
                  <a:pt x="13172" y="762"/>
                  <a:pt x="13300" y="654"/>
                  <a:pt x="13494" y="595"/>
                </a:cubicBezTo>
                <a:cubicBezTo>
                  <a:pt x="13576" y="570"/>
                  <a:pt x="13680" y="573"/>
                  <a:pt x="13767" y="571"/>
                </a:cubicBezTo>
                <a:cubicBezTo>
                  <a:pt x="13870" y="569"/>
                  <a:pt x="13995" y="554"/>
                  <a:pt x="14089" y="595"/>
                </a:cubicBezTo>
                <a:cubicBezTo>
                  <a:pt x="14184" y="637"/>
                  <a:pt x="14276" y="712"/>
                  <a:pt x="14362" y="769"/>
                </a:cubicBezTo>
                <a:cubicBezTo>
                  <a:pt x="14441" y="821"/>
                  <a:pt x="14414" y="808"/>
                  <a:pt x="14436" y="868"/>
                </a:cubicBezTo>
                <a:cubicBezTo>
                  <a:pt x="14464" y="943"/>
                  <a:pt x="14413" y="1023"/>
                  <a:pt x="14461" y="1091"/>
                </a:cubicBezTo>
                <a:cubicBezTo>
                  <a:pt x="14467" y="1099"/>
                  <a:pt x="14586" y="1156"/>
                  <a:pt x="14585" y="1191"/>
                </a:cubicBezTo>
                <a:cubicBezTo>
                  <a:pt x="14583" y="1268"/>
                  <a:pt x="14485" y="1368"/>
                  <a:pt x="14412" y="1389"/>
                </a:cubicBezTo>
                <a:cubicBezTo>
                  <a:pt x="14306" y="1419"/>
                  <a:pt x="14140" y="1391"/>
                  <a:pt x="14039" y="1364"/>
                </a:cubicBezTo>
                <a:cubicBezTo>
                  <a:pt x="13986" y="1350"/>
                  <a:pt x="13886" y="1336"/>
                  <a:pt x="13841" y="1315"/>
                </a:cubicBezTo>
                <a:cubicBezTo>
                  <a:pt x="13796" y="1294"/>
                  <a:pt x="13765" y="1249"/>
                  <a:pt x="13717" y="1240"/>
                </a:cubicBezTo>
                <a:cubicBezTo>
                  <a:pt x="13460" y="1190"/>
                  <a:pt x="13105" y="1234"/>
                  <a:pt x="12874" y="1315"/>
                </a:cubicBezTo>
                <a:cubicBezTo>
                  <a:pt x="12813" y="1337"/>
                  <a:pt x="12755" y="1371"/>
                  <a:pt x="12700" y="1389"/>
                </a:cubicBezTo>
                <a:cubicBezTo>
                  <a:pt x="12633" y="1411"/>
                  <a:pt x="12548" y="1418"/>
                  <a:pt x="12477" y="1439"/>
                </a:cubicBezTo>
                <a:cubicBezTo>
                  <a:pt x="12366" y="1473"/>
                  <a:pt x="12211" y="1543"/>
                  <a:pt x="12105" y="1563"/>
                </a:cubicBezTo>
                <a:cubicBezTo>
                  <a:pt x="11868" y="1608"/>
                  <a:pt x="11576" y="1581"/>
                  <a:pt x="11336" y="1588"/>
                </a:cubicBezTo>
                <a:cubicBezTo>
                  <a:pt x="11163" y="1593"/>
                  <a:pt x="10962" y="1605"/>
                  <a:pt x="10815" y="1538"/>
                </a:cubicBezTo>
                <a:cubicBezTo>
                  <a:pt x="10786" y="1525"/>
                  <a:pt x="10784" y="1498"/>
                  <a:pt x="10765" y="1488"/>
                </a:cubicBezTo>
                <a:cubicBezTo>
                  <a:pt x="10724" y="1466"/>
                  <a:pt x="10683" y="1442"/>
                  <a:pt x="10641" y="1414"/>
                </a:cubicBezTo>
                <a:cubicBezTo>
                  <a:pt x="10616" y="1398"/>
                  <a:pt x="10583" y="1351"/>
                  <a:pt x="10567" y="1339"/>
                </a:cubicBezTo>
                <a:cubicBezTo>
                  <a:pt x="10559" y="1339"/>
                  <a:pt x="10550" y="1339"/>
                  <a:pt x="10542" y="1339"/>
                </a:cubicBezTo>
                <a:cubicBezTo>
                  <a:pt x="10589" y="1302"/>
                  <a:pt x="10540" y="1289"/>
                  <a:pt x="10641" y="1240"/>
                </a:cubicBezTo>
                <a:cubicBezTo>
                  <a:pt x="10791" y="1167"/>
                  <a:pt x="10917" y="1144"/>
                  <a:pt x="11088" y="1141"/>
                </a:cubicBezTo>
                <a:cubicBezTo>
                  <a:pt x="11214" y="1139"/>
                  <a:pt x="11342" y="1125"/>
                  <a:pt x="11460" y="1116"/>
                </a:cubicBezTo>
                <a:cubicBezTo>
                  <a:pt x="11723" y="1097"/>
                  <a:pt x="12000" y="1122"/>
                  <a:pt x="12254" y="1141"/>
                </a:cubicBezTo>
                <a:cubicBezTo>
                  <a:pt x="12644" y="1170"/>
                  <a:pt x="13037" y="1128"/>
                  <a:pt x="13419" y="1091"/>
                </a:cubicBezTo>
                <a:cubicBezTo>
                  <a:pt x="13565" y="1077"/>
                  <a:pt x="13719" y="1091"/>
                  <a:pt x="13866" y="1091"/>
                </a:cubicBezTo>
                <a:cubicBezTo>
                  <a:pt x="13835" y="1119"/>
                  <a:pt x="13838" y="1156"/>
                  <a:pt x="13767" y="1191"/>
                </a:cubicBezTo>
                <a:cubicBezTo>
                  <a:pt x="13674" y="1236"/>
                  <a:pt x="13591" y="1274"/>
                  <a:pt x="13494" y="1290"/>
                </a:cubicBezTo>
                <a:cubicBezTo>
                  <a:pt x="13352" y="1314"/>
                  <a:pt x="13244" y="1274"/>
                  <a:pt x="13122" y="1240"/>
                </a:cubicBezTo>
                <a:cubicBezTo>
                  <a:pt x="13011" y="1209"/>
                  <a:pt x="12912" y="1218"/>
                  <a:pt x="12799" y="1215"/>
                </a:cubicBezTo>
                <a:cubicBezTo>
                  <a:pt x="12734" y="1214"/>
                  <a:pt x="12687" y="1204"/>
                  <a:pt x="12626" y="1191"/>
                </a:cubicBezTo>
                <a:cubicBezTo>
                  <a:pt x="12496" y="1163"/>
                  <a:pt x="12388" y="1144"/>
                  <a:pt x="12254" y="1141"/>
                </a:cubicBezTo>
                <a:cubicBezTo>
                  <a:pt x="12140" y="1139"/>
                  <a:pt x="12037" y="1136"/>
                  <a:pt x="11931" y="1166"/>
                </a:cubicBezTo>
                <a:cubicBezTo>
                  <a:pt x="11761" y="1214"/>
                  <a:pt x="11632" y="1295"/>
                  <a:pt x="11485" y="1389"/>
                </a:cubicBezTo>
                <a:cubicBezTo>
                  <a:pt x="11390" y="1450"/>
                  <a:pt x="11320" y="1555"/>
                  <a:pt x="11212" y="1588"/>
                </a:cubicBezTo>
                <a:cubicBezTo>
                  <a:pt x="11124" y="1615"/>
                  <a:pt x="10966" y="1587"/>
                  <a:pt x="10889" y="1563"/>
                </a:cubicBezTo>
                <a:cubicBezTo>
                  <a:pt x="10865" y="1556"/>
                  <a:pt x="10864" y="1544"/>
                  <a:pt x="10840" y="15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Today’s high temperature is 15°F cooler than yesterday’s high. If the high temperature today is 77 °F, what was yesterday’s high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subtract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06T19:23:27Z</dcterms:modified>
  <cp:revision>23</cp:revision>
  <dc:subject/>
  <dc:title>Chapter 2 Integer Operations</dc:title>
</cp:coreProperties>
</file>